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D363-CBE7-4E9F-A5EC-853CF298E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B614-899C-4898-8B62-40499244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CDD0-07AE-43C1-9F05-955028BF9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B9E1-3248-4265-AFEB-C9B584866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5C2E-1AFB-4759-AC47-1F748A961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8686-73A9-4F50-8CB3-58931E5E6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F8CA-AC6C-42D2-87FD-173E93CCE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BFF0-5C0A-44D6-9512-FC677FC3F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DD32-318E-45D8-BB98-D2E0A2995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2DE2-D3A4-406D-A155-B0B020F62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B6E-03B7-421E-9FE2-1E4103E51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BE53-A56F-4F29-BD31-35A772ABA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AC2D-CD4A-4B2B-867D-D42681EA3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84C3-CB66-4B68-B7A8-F4B0DECF7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5B15-A4F8-40F3-B603-0FF2F7477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AA0C-0A02-44EC-9F4B-D41E93BC3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5B5E-78EE-4672-8A6E-3B501D55E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B76A-753A-4CCE-B050-77AC471A8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595E-A99D-4DF2-8D64-0F3569DD0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5736-EF46-4CFC-88AC-9E6469BEC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0D91-68E0-4BEE-92A6-1FCE807AA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7A21-497A-4F37-B9ED-3B51FDC25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B376-A684-47F0-9785-DC3AC4AA5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3872-3F2A-4D40-9DE2-A238666CB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678-5667-4082-907A-BD7EB08E9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9882-ECBF-4FA4-92FB-25783C57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7599-C64E-4FF7-9FA3-25B05B24A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F239-9AB3-4378-8938-CA51AC70E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3248-F3DF-4CBC-B91C-748B9DAD5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DAE2-2747-42AF-8B7F-9F846E04C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20B3-0CE4-4DA0-B0EF-05915E6DB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B7E4-36CE-46D1-9DF6-9BF0806BC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76EB-3869-400A-BCC4-37285E6C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CE78-7DEA-4CC5-8057-8688610B6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13EF-E628-40F4-A047-F5DA6793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5E8-924C-4814-A090-D593C7FA0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167E-C06B-4C61-8E00-F77339689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D5E9-41E6-47F3-99C0-4817E55E5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31D4-F041-48CE-819C-3E483638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2BC-6F14-4D08-841A-8BFFE82FE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9F2B-BC12-4DC4-8334-CC1300EE4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232C-8998-414F-8A74-2B935769D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9370-762F-47DA-9517-38BE17095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7937-2A27-4D60-BEC4-592202EF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ED76-79A8-4E89-9B1A-2E3E5760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E8DF-7F90-4735-9B45-DC3EB2F8A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7CC2-9B16-4DF2-9390-425ACA093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F3A5-DB5B-407F-93B2-C36E73CE8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B902-C694-43D0-BB6D-607E7C50B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EAF6-0569-4F04-BCF5-4090B2C7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E701-EC08-4813-AA42-1176D39FE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F07-7F4A-4D11-9F23-86DD0D89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B09-587E-476D-B2F3-D8F15ADE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B00-1BA4-4889-8A80-3A43AE0B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5FC-CB7D-4DD0-8017-831F465E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CC2-F2DE-4A00-92D6-68A3E343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344-981C-4BD0-A5D5-79F0BC15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8EB-C8D3-4D2C-88F6-27F2C001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93A-7CC7-4A5D-8ADA-6ABD5F17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893-24CE-4A83-AFF2-77DB7FAC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8D2-39A7-4EDF-99AF-966C5A14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77F-7BFC-4502-95AB-471F6C2B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148-10EA-4408-B0AC-FB198659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9B0F-B785-40D0-B5EF-153761060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6.xml"/><Relationship Id="rId22" Type="http://schemas.openxmlformats.org/officeDocument/2006/relationships/slide" Target="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theme.wma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">
            <a:hlinkClick r:id="rId3" action="ppaction://hlinksldjump"/>
          </p:cNvPr>
          <p:cNvSpPr/>
          <p:nvPr/>
        </p:nvSpPr>
        <p:spPr>
          <a:xfrm>
            <a:off x="7543800" y="59436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49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19320" y="1295280"/>
            <a:ext cx="693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describes the absorption of light photons by pigment electrons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2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9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90720" y="16765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excitation!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8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382200" y="3855600"/>
            <a:ext cx="253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This quantity is found by multiplying time with velocity 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143000" y="167652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final electron acceptor during noncyclic photophosphorylation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9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38080" y="1143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NADPH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15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tein, which splits water to replace the electrons lost by chlorophyll.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9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1440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Z protein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ulti-protein  complex responsible for the pumping of H+ ions across the thylakoid membrane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69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90720" y="1676520"/>
            <a:ext cx="7162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-complex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structures on the bottom of plant leaves that regulate water los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9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38080" y="10666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tomata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469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6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14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30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cess by which water escapes through openings on the bottom surface of leaves        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69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10666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ranspiration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10666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2 main reasons why plant leaves are flat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3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9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676520"/>
            <a:ext cx="716256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To maximize the surface area available for photosynthesi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inimize the distance the 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to travel within the leaf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imary purpose for the roots of plants (other than extracting water from soil)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4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9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43000" y="12952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o store excess sugars until they are needed by the plant to produce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45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439080" y="97920"/>
            <a:ext cx="226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lants Adapted to Growth in the Sun</a:t>
            </a:r>
            <a:endParaRPr b="0" lang="en-US" sz="11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waxy coating found on leaves that helps them to be water-resistant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699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7621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uticl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5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990720" y="1066680"/>
            <a:ext cx="7162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st common form of photosynthetic pigment found in plant leave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69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10666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chlorophyll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447920" y="2438280"/>
            <a:ext cx="6172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abou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ght!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9" name="m1.wma" descr=""/>
          <p:cNvPicPr/>
          <p:nvPr/>
        </p:nvPicPr>
        <p:blipFill>
          <a:blip r:embed="rId2"/>
          <a:stretch/>
        </p:blipFill>
        <p:spPr>
          <a:xfrm>
            <a:off x="82296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96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a pigment molecule, this is the function of the hydrocarbon tail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69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0720" y="1676520"/>
            <a:ext cx="716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o anchor the pigment molecule in the thylakoid membran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rase used to represent the light wavelengths from 400-700 nm that fuel photosynthesi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69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0720" y="16765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hotosynthetically active radiation (PAR)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is used to describe pigments other than chlorophyll that absorb light in other parts of the spectrum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699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14400" y="99072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accessory pigments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38080" y="106668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lass of accessory pigments, often found in fruits and vegetables, reflect light within the yellow-orange region of the light spectrum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69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914400" y="12193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carotenoids! (e.g. Beta-carotene)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1066680"/>
            <a:ext cx="716292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ase of the Calvin Cycle, which involves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69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90720" y="16765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arbon fixation phas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1" name="m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3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1066680"/>
            <a:ext cx="716292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ame of the enzyme, which catalyzes the reaction of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with RuBP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699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990720" y="167652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bisco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two reasons why phase 2 of the Calvin Cycle is called the Reduction Reaction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699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90720" y="1676520"/>
            <a:ext cx="7162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3 bisphosphoglycerate is chemically reduced to produce G3P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G3Ps available for further reaction decrease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838080" y="1066680"/>
            <a:ext cx="7162920" cy="47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lecular reason why the rate of  photosynthesis is dependent upon 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oncentration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69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14400" y="1143000"/>
            <a:ext cx="71629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is both 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compete for the same binding site on rubisco.</a:t>
            </a:r>
            <a:endParaRPr b="0" lang="en-US" sz="5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umber of times the Calvin cycle must complete to be able to produce 1 glucose molecule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699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Calvin cycle must complete twice to be able to produce a complete glucose molecule.  2x3C = 6C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838080" y="1066680"/>
            <a:ext cx="71629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evidence that suggests that cell respiration and photosynthesis may have a common evolutionary origin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1447920" y="2590920"/>
            <a:ext cx="6172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igment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Imaginat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3" name="m3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3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both use an electron transport chain in order to produce ATP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5" name="m4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3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l about Light!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7" name="AutoShape 74">
            <a:hlinkClick r:id="rId2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327672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Pigment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your Imagination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9"/>
          <p:cNvSpPr txBox="1"/>
          <p:nvPr/>
        </p:nvSpPr>
        <p:spPr>
          <a:xfrm>
            <a:off x="48006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ype of energy transformation takes place during photosynthesi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94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9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90720" y="1676520"/>
            <a:ext cx="716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from light energy to chemical bond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ustin</cp:lastModifiedBy>
  <dcterms:modified xsi:type="dcterms:W3CDTF">2010-07-14T17:51:46Z</dcterms:modified>
  <cp:revision>187</cp:revision>
  <dc:subject/>
  <dc:title>Jeopardy</dc:title>
</cp:coreProperties>
</file>