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8345-D703-49CC-B8D8-A7B27BBC3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6797-4C14-421C-A7D5-D23E4616E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7DA3-32C9-4FCB-AD29-131F2B91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BA0B-CC7B-4920-85CD-08AD8E5A4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9889-D07E-4A65-8892-E3FB6CF02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9A35-105C-43C9-B2F9-DCD565867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5C11-E977-4516-BD2A-B0BC8149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1FFF-10A7-44D5-B1AF-1A3992572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14CA-2849-42F9-A35F-B16A145F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46BA-0310-4BDA-9074-BBFAA9048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2F54-5AF4-4A6E-9C3F-CFB7161F2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724B-778E-486B-81FE-9117F71B5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5417-3B4F-4C98-8D87-C2D6C0F2B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0AD3-B4A8-41C6-A9AD-4ED4567EC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7B0C-E939-4AEB-9086-54A67A59C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0A32-EF7C-4EAE-8A23-47C7B4AE3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C34F-C41B-4489-B76D-A42E9037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5B4E-66B4-48EA-AB52-4580C4481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C5BF-8A4F-42F0-8AF6-5A8AFE99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EFBF-A9DD-4B0B-86BC-4071FED6D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DE2A-0878-49A8-8550-63A31CB9D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4609-CD3A-4B51-B85D-EC234885B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F007-E6D9-422D-BA39-EFBA3B1B4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E9AA-827B-4FE5-BD9E-93C9EF3E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4504-EC1E-4AD1-A295-DB7EB91F3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91F2-022B-486F-8FF2-B5408BB3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B6C2-25C0-408E-97CC-7311D9F95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94F3-5BB5-40D2-81C0-AA1F98735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9685-B543-49C0-85CE-E6C5E2ACF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6C6D-1A04-47D5-A354-ADFDF1B76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2254-EB88-49A8-93FB-E6FCD2B4B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0686-BE5A-4934-967C-5DB2A7D68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390C-4596-4759-8389-A41484E0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BABF-B881-475D-B54C-C25601EE3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542E-E304-4E19-B80A-AC8DC2AA2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2FFD-AEFC-4704-B9B3-A59CB1F9A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E235-924F-4494-819F-7D5BA5FEF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1B3D-70C3-445F-AE4E-03E35F84C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251C-A97A-491E-9408-6791DD9DE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6120-5101-4713-87B7-0DFA5FA0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6335-E8B1-415F-BAA6-021034E31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8366-3850-4719-BC8B-5802EFDA0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3ABA-8CF8-4DD3-9F02-EBFE3939B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32C4-099F-4F4F-89C2-2A31E02A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ACFF-F259-4BC9-958C-79A27CD32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090E-A770-423B-86E7-62271021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4D7F-A6BE-4C93-BF3F-09F1CEE26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F2E6-DD07-419F-9675-6BFC0D740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7267-CE98-4797-8321-1ECED58A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4F84-2380-4113-8E01-FACD0C7DA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27A6-82A3-4A6B-B72C-B8295F9DD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4DF-00E6-40F9-9DCD-063CFDAE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AFC-D277-4DD1-A71B-2D9037C4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BF3-DC51-4218-B6E2-828EA090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3B9-4BD7-47EF-B365-5BD7FCD1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904-2D7D-484E-BFB6-2D54C975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124-ADEE-4981-8E54-B662DC74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674-6C2A-47EF-A193-8DDE40BA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A5B-E869-4EF0-B07C-E14D1237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1CB-8BEE-4586-9F57-A63C44BB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761-501B-4BE4-86EE-1A9B3D4B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8ED-1169-45BF-B657-BCBB0E31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A70-C350-4104-A36A-8D2EDFD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9C81-3A14-42E9-8975-4426C7D26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" Target="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theme.wma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">
            <a:hlinkClick r:id="rId3" action="ppaction://hlinksldjump"/>
          </p:cNvPr>
          <p:cNvSpPr/>
          <p:nvPr/>
        </p:nvSpPr>
        <p:spPr>
          <a:xfrm>
            <a:off x="7543800" y="59436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49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19320" y="129528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describes the absorption of light photons by pigment electrons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2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9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90720" y="1676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excitation!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8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382200" y="3855600"/>
            <a:ext cx="25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This quantity is found by multiplying time with velocity 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143000" y="167652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final electron acceptor during noncyclic photophosphorylation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9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380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NADPH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15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tein, which splits water to replace the electrons lost by chlorophyll.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9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1440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Z protein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ulti-protein  complex responsible for the pumping of H+ ions across the thylakoid membrane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69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90720" y="1676520"/>
            <a:ext cx="7162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-complex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structures on the bottom of plant leaves that regulate water los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9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38080" y="10666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tomata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469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6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14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30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cess by which water escapes through openings on the bottom surface of leaves        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69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10666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ranspiration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10666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2 main reasons why plant leaves are flat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3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9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676520"/>
            <a:ext cx="716256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To maximize the surface area available for photosynthesi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inimize the distance the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to travel within the leaf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imary purpose for the roots of plants (other than extracting water from soil)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4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43000" y="12952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o store excess sugars until they are needed by the plant to produce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45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439080" y="97920"/>
            <a:ext cx="226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lants Adapted to Growth in the Sun</a:t>
            </a:r>
            <a:endParaRPr b="0" lang="en-US" sz="11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waxy coating found on leaves that helps them to be water-resistant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69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7621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uticl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5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990720" y="1066680"/>
            <a:ext cx="7162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st common form of photosynthetic pigment found in plant leave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69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10666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chlorophyll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447920" y="2438280"/>
            <a:ext cx="6172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abou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ght!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9" name="m1.wma" descr=""/>
          <p:cNvPicPr/>
          <p:nvPr/>
        </p:nvPicPr>
        <p:blipFill>
          <a:blip r:embed="rId2"/>
          <a:stretch/>
        </p:blipFill>
        <p:spPr>
          <a:xfrm>
            <a:off x="82296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96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a pigment molecule, this is the function of the hydrocarbon tail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69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0720" y="1676520"/>
            <a:ext cx="716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o anchor the pigment molecule in the thylakoid membran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rase used to represent the light wavelengths from 400-700 nm that fuel photosynthesi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69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0720" y="16765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hotosynthetically active radiation (PAR)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is used to describe pigments other than chlorophyll that absorb light in other parts of the spectrum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699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14400" y="99072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accessory pigments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38080" y="106668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lass of accessory pigments, often found in fruits and vegetables, reflect light within the yellow-orange region of the light spectrum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69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14400" y="12193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carotenoids! (e.g. Beta-carotene)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1066680"/>
            <a:ext cx="716292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ase of the Calvin Cycle, which involves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69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90720" y="16765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arbon fixation phas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1" name="m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3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1066680"/>
            <a:ext cx="716292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ame of the enzyme, which catalyzes the reaction of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with RuBP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69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990720" y="1676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bisco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two reasons why phase 2 of the Calvin Cycle is called the Reduction Reaction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69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1676520"/>
            <a:ext cx="7162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3 bisphosphoglycerate is chemically reduced to produce G3P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G3Ps available for further reaction decrease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38080" y="1066680"/>
            <a:ext cx="7162920" cy="47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lecular reason why the rate of  photosynthesis is dependent upon 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oncentration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69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14400" y="1143000"/>
            <a:ext cx="7162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both 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compete for the same binding site on rubisco.</a:t>
            </a:r>
            <a:endParaRPr b="0" lang="en-US" sz="5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umber of times the Calvin cycle must complete to be able to produce 1 glucose molecule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699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alvin cycle must complete twice to be able to produce a complete glucose molecule.  2x3C = 6C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838080" y="1066680"/>
            <a:ext cx="71629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evidence that suggests that cell respiration and photosynthesis may have a common evolutionary origin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1447920" y="2590920"/>
            <a:ext cx="6172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igment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Imaginat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3" name="m3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3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both use an electron transport chain in order to produce ATP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5" name="m4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3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l about Light!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7" name="AutoShape 74">
            <a:hlinkClick r:id="rId2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327672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Pigment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your Imagination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9"/>
          <p:cNvSpPr txBox="1"/>
          <p:nvPr/>
        </p:nvSpPr>
        <p:spPr>
          <a:xfrm>
            <a:off x="48006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energy transformation takes place during photosynthesi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94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9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90720" y="1676520"/>
            <a:ext cx="716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from light energy to chemical bond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ustin</cp:lastModifiedBy>
  <dcterms:modified xsi:type="dcterms:W3CDTF">2010-07-14T17:51:46Z</dcterms:modified>
  <cp:revision>187</cp:revision>
  <dc:subject/>
  <dc:title>Jeopardy</dc:title>
</cp:coreProperties>
</file>