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E81-7C47-4258-973D-F90B87AF1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B6E-A202-45EE-827F-58E4DCB8D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C04-8F75-412B-8ACC-A4157619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DAC-D399-43D6-A6B4-CA17BF5BF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431D-0EC3-4D5E-A73F-E657D0CE3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0CF4-8174-4335-A875-0BBEA1E1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B99E-4B82-43EF-9AC4-4BA6DB46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ABD9-AECF-48DF-B38F-1B3A9CEE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8774-B283-4420-A5FA-390C69B6C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BAE2-97AB-4891-8350-3BC50AAFE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EAC7-7EE2-41BD-97FE-425D5B074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FD5-8CF8-43FF-8568-CC2812366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BCD2-87FA-4378-B00A-9C4BEC51A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5293-358F-4D04-B442-1F5EFB6C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24D-962F-4CFC-BDC1-AA24BC37E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126-CBC1-426A-BE6E-EA8B0C7E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F358-C767-4928-BC84-65297C05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CEB4-DF5A-4D6C-B2DC-658551E1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DFC8-53D2-471B-B0E0-05B3CE670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F05-BE61-48D6-8234-324E83E88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FE5A-76EB-496D-9E0C-EE1C16DBB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7C30-AD30-4F32-8538-DD9262343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285-E52C-4336-9750-ECCE820D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307-1056-4CB0-8B78-6753B3AA0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679F-75EF-43FB-8D26-2A4D07BD7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EA61-5048-41FF-9B1A-27BCFDCA8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456-E12C-4C5B-8335-A4D92B9F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B41D-7C32-4EFF-AF5D-993F90C96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55F4-A683-49BE-BFA5-D2AA3A856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85B6-2DC5-48F7-8FBA-45E33827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404-A59D-4279-9A33-DE18C16F5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EDC7-529A-4D70-B57D-C23F2C599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ADF0-B87D-4867-A4ED-B3865F70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5607-51A6-4640-8E02-6BD9F016B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38A7-F9B1-4FE8-878B-E8794DDBA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E0BC-B9CF-48A9-9FDC-1F1E8F6F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BC77-9925-4B95-B645-392D1CE0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2A6-D28D-4BA4-A536-D32181699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E69D-FCDC-4566-8A33-578A49E11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C864-F6F6-44DB-B6E1-159EC6526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C40C-4228-4029-8F8A-F9A059F4A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1B9-173B-49FA-9132-19E346FC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008-1DDD-4DEF-B9FB-E8D93288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8CDC-F8F4-464E-8CEF-B6E47A98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0F1-A5F0-4F5B-A666-6E6E7981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488C-FE5A-417B-89F4-7575EF4C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BEEE-2C58-4924-BFA7-CA617CC22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2BA3-CB2E-4FA5-8A9F-B6B2FA3C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EED3-E48F-46B0-987F-062A0504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1F6B-F39D-45EE-86DF-847575810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1E39-CEF3-463C-8404-3C7817E2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8AE-852D-440A-9A3D-71FC1582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81C-3D5B-41F2-87A4-4DB84BB4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094-F91D-4318-B9AF-31105E4B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F81-4621-4810-AEE8-1F9AF8E8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942-3A31-4E85-B8CF-63544883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0BF-190C-4410-AB87-B5F0A9AE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D14-BAD7-4BE7-B7F2-587CCCF8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FED-810A-4E2F-8F86-BF01E2A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163-1F62-46D7-90F7-BE9916B2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0B6-D42D-45A8-B27E-AD1B961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9A1-E0CF-40F6-9877-E30184D6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1AF-5E13-4662-B30E-B03BA7E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4FE-1DB6-4B82-8706-061CB2D4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heme.wma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>
            <a:hlinkClick r:id="rId3" action="ppaction://hlinksldjump"/>
          </p:cNvPr>
          <p:cNvSpPr/>
          <p:nvPr/>
        </p:nvSpPr>
        <p:spPr>
          <a:xfrm>
            <a:off x="7543800" y="5943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19320" y="12952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describes the absorption of light photons by pigment electrons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2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9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676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xcitation!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8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382200" y="3855600"/>
            <a:ext cx="25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This quantity is found by multiplying time with velocity 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143000" y="167652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final electron acceptor during noncyclic photophosphorylatio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380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NADPH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5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tein, which splits water to replace the electrons lost by chlorophyll.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1440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Z protein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ulti-protein  complex responsible for the pumping of H+ ions across the thylakoid membrane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9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90720" y="1676520"/>
            <a:ext cx="7162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complex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structures on the bottom of plant leaves that regulate water los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9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10666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tomata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46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6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4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30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cess by which water escapes through openings on the bottom surface of leaves        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69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0666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ranspiration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10666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2 main reasons why plant leaves are flat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3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9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676520"/>
            <a:ext cx="716256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To maximize the surface area available for photosynthesi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inimize the distance the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to travel within the leaf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imary purpose for the roots of plants (other than extracting water from soil)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4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2952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o store excess sugars until they are needed by the plant to produce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45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439080" y="97920"/>
            <a:ext cx="226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lants Adapted to Growth in the Sun</a:t>
            </a:r>
            <a:endParaRPr b="0" lang="en-US" sz="11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waxy coating found on leaves that helps them to be water-resistant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69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7621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uticl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5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990720" y="106668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st common form of photosynthetic pigment found in plant leave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9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10666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chlorophyll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47920" y="2438280"/>
            <a:ext cx="6172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abou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!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9" name="m1.wma" descr=""/>
          <p:cNvPicPr/>
          <p:nvPr/>
        </p:nvPicPr>
        <p:blipFill>
          <a:blip r:embed="rId2"/>
          <a:stretch/>
        </p:blipFill>
        <p:spPr>
          <a:xfrm>
            <a:off x="8229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96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a pigment molecule, this is the function of the hydrocarbon tail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0720" y="16765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o anchor the pigment molecule in the thylakoid membran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rase used to represent the light wavelengths from 400-700 nm that fuel photosynthesi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16765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hotosynthetically active radiation (PAR)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is used to describe pigments other than chlorophyll that absorb light in other parts of the spectrum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69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14400" y="99072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ccessory pigments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38080" y="10666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lass of accessory pigments, often found in fruits and vegetables, reflect light within the yellow-orange region of the light spectrum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69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14400" y="1219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carotenoids! (e.g. Beta-carotene)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066680"/>
            <a:ext cx="71629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ase of the Calvin Cycle, which involves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69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90720" y="16765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arbon fixation phas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" name="m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1066680"/>
            <a:ext cx="716292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ame of the enzyme, which catalyzes the reaction of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with RuBP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9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90720" y="1676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bisco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two reasons why phase 2 of the Calvin Cycle is called the Reduction Reaction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69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1676520"/>
            <a:ext cx="7162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3 bisphosphoglycerate is chemically reduced to produce G3P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G3Ps available for further reaction decrease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1066680"/>
            <a:ext cx="7162920" cy="47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lecular reason why the rate of  photosynthesis is dependent upon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9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1143000"/>
            <a:ext cx="7162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both 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ompete for the same binding site on rubisco.</a:t>
            </a:r>
            <a:endParaRPr b="0" lang="en-US" sz="5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umber of times the Calvin cycle must complete to be able to produce 1 glucose molecule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69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alvin cycle must complete twice to be able to produce a complete glucose molecule.  2x3C = 6C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066680"/>
            <a:ext cx="7162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evidence that suggests that cell respiration and photosynthesis may have a common evolutionary origin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1447920" y="259092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igment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Imaginat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3" name="m3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3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both use an electron transport chain in order to produce ATP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m4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 about Light!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7" name="AutoShape 74">
            <a:hlinkClick r:id="rId2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327672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igment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your Imagination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9"/>
          <p:cNvSpPr txBox="1"/>
          <p:nvPr/>
        </p:nvSpPr>
        <p:spPr>
          <a:xfrm>
            <a:off x="48006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energy transformation takes place during photosynthesi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94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167652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from light energy to chemical bond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ustin</cp:lastModifiedBy>
  <dcterms:modified xsi:type="dcterms:W3CDTF">2010-07-14T17:51:46Z</dcterms:modified>
  <cp:revision>187</cp:revision>
  <dc:subject/>
  <dc:title>Jeopardy</dc:title>
</cp:coreProperties>
</file>