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CEF4-7173-443B-AA36-F11DF8DE3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8A4D-0E12-4B1F-B4C3-B15EEECA7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2B9D-70E6-4F51-84EB-B80AF9EF5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449D-FD3B-4ADB-AC5E-73C7DFC80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C080-06A3-4EB2-92D3-4A247C632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D8C8-460F-4B01-A142-81B351F12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DC40-9860-4FF6-ACD4-15D161391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2302-69C0-4C87-9D9A-8CF2688E2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0D3E-9692-43F6-9A5B-7B3FB3A4F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C4C-7011-4BBF-B448-B0EE8237D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5F8B-67AC-45BD-898D-83CDFF9FB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3EBC-3F0B-4508-AA41-16AA6974D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877E-F267-420D-BA0B-C5186D9C9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3380-0496-4E8E-A9BB-7E78C8634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312E-FBF7-4DBC-B39E-CBB8639C6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2F50-9D83-463F-9DA3-60A395D7B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EFF4-8BF2-44CA-85C5-63B792C91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D289-1B9F-4947-976D-D07BF1ABD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D957-2BE5-411D-B02A-DFC39CA00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7E5A-5B18-4AB5-A54F-CE0397DED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8E3B-8D1F-4379-8657-BB9AF401A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1A42-7A16-43AC-AFFB-8F890D212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2345-E845-42CD-A6D5-19540DEE0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3B78-5F31-40DE-9261-E9A657FC3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6886-5014-432C-8366-563C9E936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82FF-A607-4C10-AE9B-5F558D458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FDCF-A6D6-40BB-8F54-77C765FA1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C4CC-EB3F-4BFC-A0CA-6FB4FBCF0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C122-F425-4670-B586-2C723E0E8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9949-645F-4080-A655-2CF4AE745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F42C-B72A-4B36-A538-FB998893F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D5CB-0664-46DD-B5CE-34F979083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7849-BE5F-4565-A2BF-3263FC5DF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B8C5-7B0C-41E9-9214-9F8A7CBA7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6948-8448-4F8D-8BC3-B68E36F4E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3449-5193-4837-AE1E-B89CABEE6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FB9B-8D9D-48C4-9038-BECCE3CDA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2117-4AF3-4725-A6CB-EC612946D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1120-695C-4755-9B90-CCEDE9095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69F0-18BF-4EA8-BB1D-C224209CA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BF7B-2C1D-4039-9020-973F1D299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DC16-265D-4792-8B84-954251A6F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CD88-D323-40F7-B684-EABD41AED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8325-7613-4E17-A86B-DC40B5299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2324-D3CE-4994-AF3E-CBC61A67A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C3F8-4977-45FF-B6DB-565C19B06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60DE-F850-45BB-BFDF-69E8AEA49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A34C-A6A3-49F7-9AAC-06C7FDE12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11E0-D724-486C-98EF-D3C764124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9FD2-935A-4E23-863E-DBE609186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B39D-8C59-4DA7-A943-3D67F4A4E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972-C53A-4899-AF1A-9B98FC38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90D-52ED-4D3F-A247-AA28D482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9CB-2059-41CB-8A45-AA64E91E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AEF-00AE-42E6-9656-93DB7BB9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B26-DE1B-4C39-BE23-FDAFD8A4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F28-E79E-4D65-B523-4F304689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98A-CEFB-40F7-B720-B92D3EEF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DC1-F2DD-4539-8C40-A5231863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96D-E8C2-41CF-AC80-6A43A2C0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CB6-19A0-4CA1-B5F6-C46DE10A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AE2-BFA2-4646-B724-DDFF7632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3C0-772E-484A-A809-21A83B7F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5E3E-BE8C-4A17-8134-504533288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2.xml"/><Relationship Id="rId20" Type="http://schemas.openxmlformats.org/officeDocument/2006/relationships/slide" Target="slide44.xml"/><Relationship Id="rId21" Type="http://schemas.openxmlformats.org/officeDocument/2006/relationships/slide" Target="slide46.xml"/><Relationship Id="rId22" Type="http://schemas.openxmlformats.org/officeDocument/2006/relationships/slide" Target="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theme.wma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6">
            <a:hlinkClick r:id="rId3" action="ppaction://hlinksldjump"/>
          </p:cNvPr>
          <p:cNvSpPr/>
          <p:nvPr/>
        </p:nvSpPr>
        <p:spPr>
          <a:xfrm>
            <a:off x="7543800" y="59436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49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16002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fbe"/>
                </a:solidFill>
                <a:latin typeface="Times New Roman"/>
              </a:rPr>
              <a:t>This quantity is calculate</a:t>
            </a:r>
            <a:endParaRPr b="0" lang="en-US" sz="36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19320" y="1295280"/>
            <a:ext cx="693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erm describes the absorption of light photons by pigment electrons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02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9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90720" y="16765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excitation!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95280" y="16002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fbe"/>
                </a:solidFill>
                <a:latin typeface="Times New Roman"/>
              </a:rPr>
              <a:t>This quantity is calculate</a:t>
            </a:r>
            <a:endParaRPr b="0" lang="en-US" sz="36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08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382200" y="3855600"/>
            <a:ext cx="253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This quantity is found by multiplying time with velocity 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143000" y="167652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final electron acceptor during noncyclic photophosphorylation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9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38080" y="11430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NADPH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15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990720" y="16765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otein, which splits water to replace the electrons lost by chlorophyll. 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9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14400" y="12193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e Z protein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ulti-protein  complex responsible for the pumping of H+ ions across the thylakoid membrane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2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69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990720" y="1676520"/>
            <a:ext cx="71625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-complex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structures on the bottom of plant leaves that regulate water los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26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699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838080" y="10666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tomata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469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67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14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5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30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ocess by which water escapes through openings on the bottom surface of leaves         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69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080" y="10666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ranspiration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38080" y="106668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2 main reasons why plant leaves are flat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36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69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90720" y="1676520"/>
            <a:ext cx="716256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To maximize the surface area available for photosynthesis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inimize the distance the C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to travel within the leaf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imary purpose for the roots of plants (other than extracting water from soil)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4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99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43000" y="12952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o store excess sugars until they are needed by the plant to produce energy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45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439080" y="97920"/>
            <a:ext cx="226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lants Adapted to Growth in the Sun</a:t>
            </a:r>
            <a:endParaRPr b="0" lang="en-US" sz="11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waxy coating found on leaves that helps them to be water-resistant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699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14400" y="7621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cuticl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5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990720" y="1066680"/>
            <a:ext cx="71625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ost common form of photosynthetic pigment found in plant leave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69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38080" y="10666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chlorophyll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447920" y="2438280"/>
            <a:ext cx="61722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about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ght!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9" name="m1.wma" descr=""/>
          <p:cNvPicPr/>
          <p:nvPr/>
        </p:nvPicPr>
        <p:blipFill>
          <a:blip r:embed="rId2"/>
          <a:stretch/>
        </p:blipFill>
        <p:spPr>
          <a:xfrm>
            <a:off x="82296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96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a pigment molecule, this is the function of the hydrocarbon tail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69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90720" y="1676520"/>
            <a:ext cx="716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o anchor the pigment molecule in the thylakoid membran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hrase used to represent the light wavelengths from 400-700 nm that fuel photosynthesi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6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699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0720" y="167652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hotosynthetically active radiation (PAR)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erm is used to describe pigments other than chlorophyll that absorb light in other parts of the spectrum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6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699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14400" y="99072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accessory pigments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838080" y="1066680"/>
            <a:ext cx="716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class of accessory pigments, often found in fruits and vegetables, reflect light within the yellow-orange region of the light spectrum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7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699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914400" y="12193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carotenoids! (e.g. Beta-carotene)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38080" y="1066680"/>
            <a:ext cx="716292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hase of the Calvin Cycle, which involves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7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69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90720" y="16765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carbon fixation phas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5"/>
          <p:cNvSpPr txBox="1"/>
          <p:nvPr/>
        </p:nvSpPr>
        <p:spPr>
          <a:xfrm>
            <a:off x="1447920" y="25909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dgepodg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1" name="m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3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38080" y="1066680"/>
            <a:ext cx="716292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name of the enzyme, which catalyzes the reaction of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with RuBP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8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699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990720" y="167652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ubisco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two reasons why phase 2 of the Calvin Cycle is called the Reduction Reactions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8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699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90720" y="1676520"/>
            <a:ext cx="71625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7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3 bisphosphoglycerate is chemically reduced to produce G3P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743040" indent="-743040">
              <a:spcBef>
                <a:spcPts val="27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G3Ps available for further reaction decreases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838080" y="1066680"/>
            <a:ext cx="7162920" cy="47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olecular reason why the rate of  photosynthesis is dependent upon 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concentration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9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69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914400" y="1143000"/>
            <a:ext cx="71629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is both 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C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compete for the same binding site on rubisco.</a:t>
            </a:r>
            <a:endParaRPr b="0" lang="en-US" sz="5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number of times the Calvin cycle must complete to be able to produce 1 glucose molecule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9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699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Calvin cycle must complete twice to be able to produce a complete glucose molecule.  2x3C = 6C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838080" y="1066680"/>
            <a:ext cx="71629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evidence that suggests that cell respiration and photosynthesis may have a common evolutionary origin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1447920" y="2590920"/>
            <a:ext cx="6172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igment of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Imaginat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3" name="m3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93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both use an electron transport chain in order to produce ATP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3"/>
          <p:cNvSpPr txBox="1"/>
          <p:nvPr/>
        </p:nvSpPr>
        <p:spPr>
          <a:xfrm>
            <a:off x="1447920" y="25909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’s afraid of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ark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5" name="m4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3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ll about Light!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7" name="AutoShape 74">
            <a:hlinkClick r:id="rId2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WordArt 75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t 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odgepodge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76"/>
          <p:cNvSpPr txBox="1"/>
          <p:nvPr/>
        </p:nvSpPr>
        <p:spPr>
          <a:xfrm>
            <a:off x="327672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Pigment 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your Imagination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79"/>
          <p:cNvSpPr txBox="1"/>
          <p:nvPr/>
        </p:nvSpPr>
        <p:spPr>
          <a:xfrm>
            <a:off x="48006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o’s Afraid of 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Dark?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90720" y="16765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ype of energy transformation takes place during photosynthesis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94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9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90720" y="1676520"/>
            <a:ext cx="716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from light energy to chemical bond energy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ustin</cp:lastModifiedBy>
  <dcterms:modified xsi:type="dcterms:W3CDTF">2010-07-14T17:51:46Z</dcterms:modified>
  <cp:revision>187</cp:revision>
  <dc:subject/>
  <dc:title>Jeopardy</dc:title>
</cp:coreProperties>
</file>