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B164-FE16-4477-8691-31B853DD5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E8C8-AEC2-4E6F-8A2D-775318C05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83D2-5EE1-4096-977A-72EE1F912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FE7A-F125-4681-B8DE-0506ABD17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1ADB-9E52-40C9-BF8C-559BC8B3A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C37A-355B-470E-86F4-7FCBB95B7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BFFC-9744-4E6B-A122-E95CEE221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5640-74AE-40CF-807D-CDFCF10F1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6222-FFCD-445F-BCC4-C57422E20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34D9-7275-475A-8D7F-430585989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732A-CE97-474E-956D-0952EA2A7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0A8A-9E4E-471B-98EF-A0648C617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572A-9D59-40CE-A028-A8930113F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B021-4C47-470E-953D-5D29B9547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61D4-F724-4270-A80F-6DE81A76A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40FE-B2BF-4F40-A23D-C143CCDB6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F967-6FC0-40A4-8D0E-51CD5EA89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7345-7E33-4E6E-B36C-0D6CF91A5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ADE5-3ADE-4F68-BDDE-BA4321745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CFF6-9080-4EBA-BAC4-686C6746A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314F-34AD-4225-9326-962998D75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EF15-B4CC-4398-A51C-994250877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4E02-B4E6-4F5B-B724-DD85FF2AA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F7A3-870F-4F25-A051-183783A6A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C9B1-F99B-4D97-A3D2-85B5714CA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9D26-E609-4073-AFAA-AC78574DD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A299-9BC9-4058-B26B-5E8481967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3CE2-AAC2-44F9-B3A5-47F9022F0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5C6D-180E-4E2F-A881-FA2890C96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8A47-B04D-4E6B-ADD1-D90BFA76A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8C59-DC90-46C5-9760-B0FC61565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737B-20EB-4060-B357-C84D21DFF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B549-4F81-4F59-86C9-405C145B2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0690-916B-474B-930B-3C56E9573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4F83-9643-4C18-ADCC-9820021F1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94CE-D96F-4642-AA58-266022A68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A957-C4A6-461D-B6F2-60DD00AEF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77E0-6060-4366-B24E-D33B613FF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33E8-F97D-40D6-8305-30B5E7E36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E2DF-B685-4575-9045-6BAD0355A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763E-F03F-4E61-AA5C-63CA3029D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DCF5-2C4D-4946-94BA-F7AE4CD93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49E5-4920-49A4-ADBA-B034D340F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03F8-5F28-4734-96CE-F1003CB32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F6AF-90E3-4E85-BBA3-A66B1BE1E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550E-4954-4932-B38B-03C0B97B1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DF70-DD6F-49D8-BF40-9176BB34D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B0F2-E1C3-4583-BC3F-5687B1A31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A333-A8B6-4C20-9CDD-22314C33F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5800-8EF6-4533-9E29-C2C68C2AB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D6C8-AEB3-444F-A569-57F919157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310E-5C2D-4A3B-9BDB-3E40B313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BF1F-1C10-4BD5-994D-A64449EA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1910-8C2F-461E-BF4C-1D3F50B1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6E4C-C907-409D-BF81-A8874260A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928A-2486-4A28-9887-FDA92B71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17BE-1E2A-4A28-8AEB-616474D4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8553-7968-401B-9D60-F53CFB45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7A45-DE3F-4C00-B896-6265E9C5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585D-BA6C-4016-BD91-8B6A616A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F976-122D-4DF3-8104-4C646133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DBCD-D8C8-40E4-8EFF-BA9C3BE3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D15B-7321-4B56-9013-67CB4028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743B-D70C-464C-9305-DA7387BEB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2.xml"/><Relationship Id="rId10" Type="http://schemas.openxmlformats.org/officeDocument/2006/relationships/slide" Target="slide24.xml"/><Relationship Id="rId11" Type="http://schemas.openxmlformats.org/officeDocument/2006/relationships/slide" Target="slide26.xml"/><Relationship Id="rId12" Type="http://schemas.openxmlformats.org/officeDocument/2006/relationships/slide" Target="slide28.xml"/><Relationship Id="rId13" Type="http://schemas.openxmlformats.org/officeDocument/2006/relationships/slide" Target="slide30.xml"/><Relationship Id="rId14" Type="http://schemas.openxmlformats.org/officeDocument/2006/relationships/slide" Target="slide32.xml"/><Relationship Id="rId15" Type="http://schemas.openxmlformats.org/officeDocument/2006/relationships/slide" Target="slide34.xml"/><Relationship Id="rId16" Type="http://schemas.openxmlformats.org/officeDocument/2006/relationships/slide" Target="slide36.xml"/><Relationship Id="rId17" Type="http://schemas.openxmlformats.org/officeDocument/2006/relationships/slide" Target="slide38.xml"/><Relationship Id="rId18" Type="http://schemas.openxmlformats.org/officeDocument/2006/relationships/slide" Target="slide40.xml"/><Relationship Id="rId19" Type="http://schemas.openxmlformats.org/officeDocument/2006/relationships/slide" Target="slide42.xml"/><Relationship Id="rId20" Type="http://schemas.openxmlformats.org/officeDocument/2006/relationships/slide" Target="slide44.xml"/><Relationship Id="rId21" Type="http://schemas.openxmlformats.org/officeDocument/2006/relationships/slide" Target="slide46.xml"/><Relationship Id="rId22" Type="http://schemas.openxmlformats.org/officeDocument/2006/relationships/slide" Target="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theme.wma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6">
            <a:hlinkClick r:id="rId3" action="ppaction://hlinksldjump"/>
          </p:cNvPr>
          <p:cNvSpPr/>
          <p:nvPr/>
        </p:nvSpPr>
        <p:spPr>
          <a:xfrm>
            <a:off x="7543800" y="59436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4499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295280" y="16002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fbe"/>
                </a:solidFill>
                <a:latin typeface="Times New Roman"/>
              </a:rPr>
              <a:t>This quantity is calculate</a:t>
            </a:r>
            <a:endParaRPr b="0" lang="en-US" sz="36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219320" y="1295280"/>
            <a:ext cx="6933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term describes the absorption of light photons by pigment electrons.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02" name="pick2.wma" descr=""/>
          <p:cNvPicPr/>
          <p:nvPr/>
        </p:nvPicPr>
        <p:blipFill>
          <a:blip r:embed="rId1"/>
          <a:stretch/>
        </p:blipFill>
        <p:spPr>
          <a:xfrm>
            <a:off x="8229600" y="914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699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990720" y="1676520"/>
            <a:ext cx="716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excitation!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04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295280" y="16002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fbe"/>
                </a:solidFill>
                <a:latin typeface="Times New Roman"/>
              </a:rPr>
              <a:t>This quantity is calculate</a:t>
            </a:r>
            <a:endParaRPr b="0" lang="en-US" sz="36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08" name="pick2.wma" descr=""/>
          <p:cNvPicPr/>
          <p:nvPr/>
        </p:nvPicPr>
        <p:blipFill>
          <a:blip r:embed="rId1"/>
          <a:stretch/>
        </p:blipFill>
        <p:spPr>
          <a:xfrm>
            <a:off x="8229600" y="914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9" name="WordArt 10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382200" y="3855600"/>
            <a:ext cx="2532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This quantity is found by multiplying time with velocity 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1143000" y="167652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final electron acceptor during noncyclic photophosphorylation.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699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838080" y="114300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NADPH!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pic>
        <p:nvPicPr>
          <p:cNvPr id="115" name="pick2.wma" descr=""/>
          <p:cNvPicPr/>
          <p:nvPr/>
        </p:nvPicPr>
        <p:blipFill>
          <a:blip r:embed="rId1"/>
          <a:stretch/>
        </p:blipFill>
        <p:spPr>
          <a:xfrm>
            <a:off x="8229600" y="914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990720" y="1676520"/>
            <a:ext cx="7162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protein, which splits water to replace the electrons lost by chlorophyll. 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699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14400" y="121932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the Z protein!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838080" y="1066680"/>
            <a:ext cx="7162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multi-protein  complex responsible for the pumping of H+ ions across the thylakoid membrane.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21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699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990720" y="1676520"/>
            <a:ext cx="71625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B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-complex!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3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838080" y="10666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se are the structures on the bottom of plant leaves that regulate water loss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26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699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838080" y="106668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stomata!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3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69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469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467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14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5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pic>
        <p:nvPicPr>
          <p:cNvPr id="130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838080" y="10666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process by which water escapes through openings on the bottom surface of leaves         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699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838080" y="106668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ranspiration!</a:t>
            </a:r>
            <a:endParaRPr b="0" lang="en-US" sz="4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838080" y="1066680"/>
            <a:ext cx="7162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se are the 2 main reasons why plant leaves are flat.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36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699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990720" y="1676520"/>
            <a:ext cx="7162560" cy="45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) To maximize the surface area available for photosynthesis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minimize the distance the C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has to travel within the leaf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8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838080" y="10666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primary purpose for the roots of plants (other than extracting water from soil)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41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699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143000" y="12952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to store excess sugars until they are needed by the plant to produce energy!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43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pic>
        <p:nvPicPr>
          <p:cNvPr id="145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3439080" y="97920"/>
            <a:ext cx="2265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Plants Adapted to Growth in the Sun</a:t>
            </a:r>
            <a:endParaRPr b="0" lang="en-US" sz="11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838080" y="1066680"/>
            <a:ext cx="7162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waxy coating found on leaves that helps them to be water-resistant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699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914400" y="76212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he cuticle!</a:t>
            </a:r>
            <a:endParaRPr b="0" lang="en-US" sz="4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49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pic>
        <p:nvPicPr>
          <p:cNvPr id="151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990720" y="1066680"/>
            <a:ext cx="71625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most common form of photosynthetic pigment found in plant leaves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699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838080" y="106668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chlorophyll!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2"/>
          <p:cNvSpPr txBox="1"/>
          <p:nvPr/>
        </p:nvSpPr>
        <p:spPr>
          <a:xfrm>
            <a:off x="1447920" y="2438280"/>
            <a:ext cx="617220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l about 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ght!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9" name="m1.wma" descr=""/>
          <p:cNvPicPr/>
          <p:nvPr/>
        </p:nvPicPr>
        <p:blipFill>
          <a:blip r:embed="rId2"/>
          <a:stretch/>
        </p:blipFill>
        <p:spPr>
          <a:xfrm>
            <a:off x="822960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966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38080" y="1066680"/>
            <a:ext cx="7162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 a pigment molecule, this is the function of the hydrocarbon tail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57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699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990720" y="1676520"/>
            <a:ext cx="7162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o anchor the pigment molecule in the thylakoid membrane!</a:t>
            </a:r>
            <a:endParaRPr b="0" lang="en-US" sz="4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59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838080" y="10666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phrase used to represent the light wavelengths from 400-700 nm that fuel photosynthesis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62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" dur="699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990720" y="1676520"/>
            <a:ext cx="716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hotosynthetically active radiation (PAR)!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64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838080" y="1066680"/>
            <a:ext cx="7162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term is used to describe pigments other than chlorophyll that absorb light in other parts of the spectrum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67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699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914400" y="990720"/>
            <a:ext cx="71629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accessory pigments!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69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838080" y="1066680"/>
            <a:ext cx="7162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s class of accessory pigments, often found in fruits and vegetables, reflect light within the yellow-orange region of the light spectrum</a:t>
            </a:r>
            <a:endParaRPr b="0" lang="en-US" sz="48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72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8" dur="699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914400" y="121932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carotenoids! (e.g. Beta-carotene)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74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838080" y="1066680"/>
            <a:ext cx="7162920" cy="29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phase of the Calvin Cycle, which involves CO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77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0" dur="699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990720" y="1676520"/>
            <a:ext cx="716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he carbon fixation phase!</a:t>
            </a:r>
            <a:endParaRPr b="0" lang="en-US" sz="4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79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5"/>
          <p:cNvSpPr txBox="1"/>
          <p:nvPr/>
        </p:nvSpPr>
        <p:spPr>
          <a:xfrm>
            <a:off x="1447920" y="2590920"/>
            <a:ext cx="61722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nt 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dgepodge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61" name="m2.wma" descr=""/>
          <p:cNvPicPr/>
          <p:nvPr/>
        </p:nvPicPr>
        <p:blipFill>
          <a:blip r:embed="rId1"/>
          <a:stretch/>
        </p:blipFill>
        <p:spPr>
          <a:xfrm>
            <a:off x="8229600" y="914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733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838080" y="1066680"/>
            <a:ext cx="7162920" cy="38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name of the enzyme, which catalyzes the reaction of CO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with RuBP.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82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2" dur="699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990720" y="1676520"/>
            <a:ext cx="716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rubisco!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84" name="AutoShape 3"/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838080" y="10666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se are the two reasons why phase 2 of the Calvin Cycle is called the Reduction Reactions.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87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" dur="699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990720" y="1676520"/>
            <a:ext cx="71625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275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3 bisphosphoglycerate is chemically reduced to produce G3P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  <a:p>
            <a:pPr marL="743040" indent="-743040">
              <a:spcBef>
                <a:spcPts val="275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mber of G3Ps available for further reaction decreases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838080" y="1066680"/>
            <a:ext cx="7162920" cy="47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molecular reason why the rate of  photosynthesis is dependent upon O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concentration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92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6" dur="699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914400" y="1143000"/>
            <a:ext cx="716292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at is both O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and CO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compete for the same binding site on rubisco.</a:t>
            </a:r>
            <a:endParaRPr b="0" lang="en-US" sz="5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94" name="AutoShape 3"/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838080" y="10666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number of times the Calvin cycle must complete to be able to produce 1 glucose molecule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97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8" dur="699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3"/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838080" y="10666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Calvin cycle must complete twice to be able to produce a complete glucose molecule.  2x3C = 6C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3"/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838080" y="1066680"/>
            <a:ext cx="71629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INAL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JEOPARDY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3"/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838080" y="1066680"/>
            <a:ext cx="7162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evidence that suggests that cell respiration and photosynthesis may have a common evolutionary origin.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5"/>
          <p:cNvSpPr txBox="1"/>
          <p:nvPr/>
        </p:nvSpPr>
        <p:spPr>
          <a:xfrm>
            <a:off x="1447920" y="2590920"/>
            <a:ext cx="6172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igment of 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our Imagination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63" name="m3.wma" descr=""/>
          <p:cNvPicPr/>
          <p:nvPr/>
        </p:nvPicPr>
        <p:blipFill>
          <a:blip r:embed="rId1"/>
          <a:stretch/>
        </p:blipFill>
        <p:spPr>
          <a:xfrm>
            <a:off x="8229600" y="914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932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3"/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838080" y="1066680"/>
            <a:ext cx="7162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both use an electron transport chain in order to produce ATP.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3"/>
          <p:cNvSpPr txBox="1"/>
          <p:nvPr/>
        </p:nvSpPr>
        <p:spPr>
          <a:xfrm>
            <a:off x="1447920" y="2590920"/>
            <a:ext cx="61722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o’s afraid of 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dark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65" name="m4.wma" descr=""/>
          <p:cNvPicPr/>
          <p:nvPr/>
        </p:nvPicPr>
        <p:blipFill>
          <a:blip r:embed="rId1"/>
          <a:stretch/>
        </p:blipFill>
        <p:spPr>
          <a:xfrm>
            <a:off x="8229600" y="914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633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ll about Light!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7" name="AutoShape 74">
            <a:hlinkClick r:id="rId2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8" name="WordArt 75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lant </a:t>
            </a:r>
            <a:endParaRPr b="1" lang="en-US" sz="12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odgepodge</a:t>
            </a:r>
            <a:endParaRPr b="1" lang="en-US" sz="12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9" name="WordArt 76"/>
          <p:cNvSpPr txBox="1"/>
          <p:nvPr/>
        </p:nvSpPr>
        <p:spPr>
          <a:xfrm>
            <a:off x="3276720" y="38088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 Pigment 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of your Imagination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0" name="WordArt 79"/>
          <p:cNvSpPr txBox="1"/>
          <p:nvPr/>
        </p:nvSpPr>
        <p:spPr>
          <a:xfrm>
            <a:off x="4800600" y="38088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ho’s Afraid of 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he Dark?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990720" y="1676520"/>
            <a:ext cx="7162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type of energy transformation takes place during photosynthesis.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94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699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990720" y="1676520"/>
            <a:ext cx="7162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from light energy to chemical bond energy!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96" name="AutoShape 5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Justin</cp:lastModifiedBy>
  <dcterms:modified xsi:type="dcterms:W3CDTF">2010-07-14T17:51:46Z</dcterms:modified>
  <cp:revision>187</cp:revision>
  <dc:subject/>
  <dc:title>Jeopardy</dc:title>
</cp:coreProperties>
</file>