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20B-7094-4E1D-8E56-199CB865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E38-5CBA-4BD5-BE08-6BE67781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10B-20F9-4D3B-85C2-AC5A8F17E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32C1-92F2-431B-B48C-1416B06FB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EB13-7D58-40B3-B034-4641A7E8E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DB0-1D51-4330-A956-6FD33C8B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4304-73A3-4325-B42A-B8E72B64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81D-4211-4E88-9EF8-CE47799D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3920-C2A8-4BC3-B942-C950168A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9CF-D67C-403E-BF18-81F463F16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C34-FB1A-4247-87F1-C8DFCF729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85E-0F96-4E29-9C02-9161AA05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C085-D83E-4E1C-816F-F1D0FED7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EE5-F1C8-4D28-8919-CC3E7FE11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B26-F625-423E-9F2A-E0A1097B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F7A-03C0-42EC-BE4E-ECB48B18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5737-41ED-4837-8298-8116CD248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E13-CC2A-48F0-B55D-7314834F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B2DA-4275-4AC3-ADC0-EC43B2EE3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458F-6DD6-438D-B50B-B9D7B9C6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D9CF-5AAD-4F55-A124-1B94FFA4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86C-8B5B-436B-A3E5-285B0A409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C847-D44F-4B1F-8533-3D0AA672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E884-8EDD-4F75-867E-F8866DC3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543-3288-4AF7-ABC6-59243B5F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E65-E516-47A6-8DE4-D997A7705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521E-35E3-43C0-BBDD-2A51D6A3C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D716-3559-4A03-ACF1-8A7E58FB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108D-7284-4D2C-A477-49188055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EA8-C730-41B0-AE5A-CBB9EF00B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EE8-4668-4A4F-B7F1-51991FF50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7F8-3DE7-4972-B1BC-E18D4E6D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482-CDF7-49D5-B66D-F888132C3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BAC-DD14-42C4-A3A3-2339ACAF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FC1B-C684-4339-B336-95FC411F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AD57-B27C-4D68-B345-0FCA5B35B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4055-03F9-4009-9B01-489717BD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099C-D9A8-444D-8E32-E4AFEAC2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B860-4A6A-4835-8921-455C3FD57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242-7C57-45F2-B0D6-9303B2BB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DA14-B666-44FD-AB75-95C3435B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9D26-17C9-49EF-B152-2285ADBC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0C4-88D7-4C7F-9435-12D4F385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A305-5765-474A-9C52-0D7E3933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21B-1CCA-48A3-A9D2-389EF14B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6D8A-E78B-4D51-9A81-4916C649C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3DE-77EC-49BA-9C72-0A1E9418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FA7-7CEA-443A-9D19-02900DC0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4C5-5CEF-4634-AC49-AE004DDF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4AB-BED3-4191-ABAA-60BA46CB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C166-CD46-41C9-831C-DE267D2A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FD3-214D-4AA9-85E7-45685DE8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288-11AF-4912-A138-CDDA744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A52-4731-4595-8B08-1197E6F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5C8-254E-416E-A67C-57E10C34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404-3B01-4CAC-AE79-4E1BD151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D7C-3266-4F6C-A216-24677EE0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858-3A64-4556-90A2-8699EB91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0C5-44EC-4A1A-858A-9C836D15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B50-C67D-4672-8ED2-85E644C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D39-FD5D-43ED-99A7-CA61B6D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113-30D4-4E92-A94F-2C6024D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2AA-9F99-4701-8DF5-BAD41EE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36E-B48E-459A-B4B6-098D44896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4.xml"/><Relationship Id="rId11" Type="http://schemas.openxmlformats.org/officeDocument/2006/relationships/slide" Target="slide26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2.xml"/><Relationship Id="rId15" Type="http://schemas.openxmlformats.org/officeDocument/2006/relationships/slide" Target="slide34.xml"/><Relationship Id="rId16" Type="http://schemas.openxmlformats.org/officeDocument/2006/relationships/slide" Target="slide3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2.xml"/><Relationship Id="rId20" Type="http://schemas.openxmlformats.org/officeDocument/2006/relationships/slide" Target="slide44.xml"/><Relationship Id="rId21" Type="http://schemas.openxmlformats.org/officeDocument/2006/relationships/slide" Target="slide46.xml"/><Relationship Id="rId22" Type="http://schemas.openxmlformats.org/officeDocument/2006/relationships/slide" Target="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theme.wma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6">
            <a:hlinkClick r:id="rId3" action="ppaction://hlinksldjump"/>
          </p:cNvPr>
          <p:cNvSpPr/>
          <p:nvPr/>
        </p:nvSpPr>
        <p:spPr>
          <a:xfrm>
            <a:off x="7543800" y="5943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9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19320" y="1295280"/>
            <a:ext cx="693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describes the absorption of light photons by pigment electrons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2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9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90720" y="16765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excitation!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95280" y="16002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fbe"/>
                </a:solidFill>
                <a:latin typeface="Times New Roman"/>
              </a:rPr>
              <a:t>This quantity is calculate</a:t>
            </a:r>
            <a:endParaRPr b="0" lang="en-US" sz="36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08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382200" y="3855600"/>
            <a:ext cx="253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This quantity is found by multiplying time with velocity 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143000" y="167652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final electron acceptor during noncyclic photophosphorylatio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69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8380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NADPH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15" name="pick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tein, which splits water to replace the electrons lost by chlorophyll.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1440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Z protein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ulti-protein  complex responsible for the pumping of H+ ions across the thylakoid membrane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69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90720" y="1676520"/>
            <a:ext cx="7162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-complex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structures on the bottom of plant leaves that regulate water los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2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99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838080" y="10666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tomata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469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6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14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30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ocess by which water escapes through openings on the bottom surface of leaves         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69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080" y="10666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ranspiration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38080" y="10666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2 main reasons why plant leaves are flat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36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69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676520"/>
            <a:ext cx="716256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To maximize the surface area available for photosynthesi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inimize the distance the 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to travel within the leaf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rimary purpose for the roots of plants (other than extracting water from soil)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4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99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43000" y="12952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o store excess sugars until they are needed by the plant to produce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45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439080" y="97920"/>
            <a:ext cx="226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lants Adapted to Growth in the Sun</a:t>
            </a:r>
            <a:endParaRPr b="0" lang="en-US" sz="11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waxy coating found on leaves that helps them to be water-resistant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69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762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uticl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151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990720" y="106668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st common form of photosynthetic pigment found in plant leave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9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10666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chlorophyll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47920" y="2438280"/>
            <a:ext cx="61722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abou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!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9" name="m1.wma" descr=""/>
          <p:cNvPicPr/>
          <p:nvPr/>
        </p:nvPicPr>
        <p:blipFill>
          <a:blip r:embed="rId2"/>
          <a:stretch/>
        </p:blipFill>
        <p:spPr>
          <a:xfrm>
            <a:off x="82296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96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a pigment molecule, this is the function of the hydrocarbon tail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699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16765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o anchor the pigment molecule in the thylakoid membran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rase used to represent the light wavelengths from 400-700 nm that fuel photosynthesis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69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16765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hotosynthetically active radiation (PAR)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erm is used to describe pigments other than chlorophyll that absorb light in other parts of the spectrum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6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699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14400" y="990720"/>
            <a:ext cx="7162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accessory pigments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38080" y="106668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class of accessory pigments, often found in fruits and vegetables, reflect light within the yellow-orange region of the light spectrum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69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914400" y="12193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carotenoids! (e.g. Beta-carotene)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1066680"/>
            <a:ext cx="71629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phase of the Calvin Cycle, which involves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7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69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16765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carbon fixation phase!</a:t>
            </a:r>
            <a:endParaRPr b="0" lang="en-US" sz="4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1" name="m2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3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1066680"/>
            <a:ext cx="716292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ame of the enzyme, which catalyzes the reaction of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with RuBP.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9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9907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bisco!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se are the two reasons why phase 2 of the Calvin Cycle is called the Reduction Reaction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8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69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1676520"/>
            <a:ext cx="7162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3 bisphosphoglycerate is chemically reduced to produce G3P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  <a:p>
            <a:pPr marL="743040" indent="-743040">
              <a:spcBef>
                <a:spcPts val="27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G3Ps available for further reaction decreases</a:t>
            </a:r>
            <a:endParaRPr b="0" lang="en-US" sz="4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1066680"/>
            <a:ext cx="7162920" cy="47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molecular reason why the rate of  photosynthesis is dependent upon 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ncentration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2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99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14400" y="1143000"/>
            <a:ext cx="7162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is both 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C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compete for the same binding site on rubisco.</a:t>
            </a:r>
            <a:endParaRPr b="0" lang="en-US" sz="5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number of times the Calvin cycle must complete to be able to produce 1 glucose molecule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97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699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1066680"/>
            <a:ext cx="7162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Calvin cycle must complete twice to be able to produce a complete glucose molecule.  2x3C = 6C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838080" y="1066680"/>
            <a:ext cx="71629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INAL 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1066680"/>
            <a:ext cx="7162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is the evidence that suggests that cell respiration and photosynthesis may have a common evolutionary origin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1447920" y="2590920"/>
            <a:ext cx="6172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Pigment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your Imaginat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3" name="m3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32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"/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1066680"/>
            <a:ext cx="71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both use an electron transport chain in order to produce ATP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1447920" y="25909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m4.wma" descr=""/>
          <p:cNvPicPr/>
          <p:nvPr/>
        </p:nvPicPr>
        <p:blipFill>
          <a:blip r:embed="rId1"/>
          <a:stretch/>
        </p:blipFill>
        <p:spPr>
          <a:xfrm>
            <a:off x="822960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3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ll about Light!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7" name="AutoShape 74">
            <a:hlinkClick r:id="rId2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WordArt 75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nt 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odgepodge</a:t>
            </a:r>
            <a:endParaRPr b="1" lang="en-US" sz="12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WordArt 76"/>
          <p:cNvSpPr txBox="1"/>
          <p:nvPr/>
        </p:nvSpPr>
        <p:spPr>
          <a:xfrm>
            <a:off x="327672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Pigment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of your Imagination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79"/>
          <p:cNvSpPr txBox="1"/>
          <p:nvPr/>
        </p:nvSpPr>
        <p:spPr>
          <a:xfrm>
            <a:off x="4800600" y="3808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ho’s Afraid of 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Dark?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1676520"/>
            <a:ext cx="716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type of energy transformation takes place during photosynthesis.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94" name="pick2.wma" descr=""/>
          <p:cNvPicPr/>
          <p:nvPr/>
        </p:nvPicPr>
        <p:blipFill>
          <a:blip r:embed="rId1"/>
          <a:stretch/>
        </p:blipFill>
        <p:spPr>
          <a:xfrm>
            <a:off x="83059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9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90720" y="1676520"/>
            <a:ext cx="716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from light energy to chemical bond energy!</a:t>
            </a:r>
            <a:endParaRPr b="0" lang="en-US" sz="6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781680" y="54864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Justin</cp:lastModifiedBy>
  <dcterms:modified xsi:type="dcterms:W3CDTF">2010-07-14T17:51:46Z</dcterms:modified>
  <cp:revision>187</cp:revision>
  <dc:subject/>
  <dc:title>Jeopardy</dc:title>
</cp:coreProperties>
</file>