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23.gif" ContentType="image/gif"/>
  <Override PartName="/ppt/media/image9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6.gif" ContentType="image/gif"/>
  <Override PartName="/ppt/media/image13.wmf" ContentType="image/x-wmf"/>
  <Override PartName="/ppt/media/image25.gif" ContentType="image/gif"/>
  <Override PartName="/ppt/media/image8.wmf" ContentType="image/x-wmf"/>
  <Override PartName="/ppt/media/image5.gif" ContentType="image/gif"/>
  <Override PartName="/ppt/media/image12.wmf" ContentType="image/x-wmf"/>
  <Override PartName="/ppt/media/image2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5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media/image4.gif" ContentType="image/gif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DB2-FF84-4802-A1CA-0B2F379B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C9A-054F-4573-9F95-4FB5A490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53F-66CB-45C8-AFB8-0470FF44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D41-F496-4F71-BFE5-7063218E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171D-CDFB-43FA-A88B-1A3A877F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D95B-8371-4E6B-9D65-289B22F8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0C67-E633-444C-BFFF-666564FF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EF8D-51E5-44A1-87E1-13E59F7E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2112-689F-43B9-B44E-9BFBE4D9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F773-5FF6-4EE0-B5F4-8AF87B77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CDDB-3853-4ADE-A551-595C2E50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3FA-952C-4441-9EBA-391B3F21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3B9A-F6EB-4F00-8F5A-5FB90FE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E07D-CF41-4EC1-9F2F-5DE98150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E96A-3E6E-4831-8306-91974FD6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2E06-D87D-4E3F-B17B-39EA0E5D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0D54-D869-49AD-97C2-A0F8D48F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0AA9-1820-4BAE-B564-DFBB2E1B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D198-A6BD-43BD-B85E-12475AA3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30C4-578C-4275-8625-AC8895C4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18BE-1371-4D8A-96D8-CCFE8089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BC86-FB15-4F0A-95A9-F74734A6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E36-655C-4324-A4C1-23962EB6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9D86-A416-4C39-83A7-ACF476CE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9FFC-7D92-447D-AB0E-DC038910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C0EC-D681-4593-8BE0-85DF0963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0867-B911-49E2-BC53-8887EE6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7860-EB42-4ADB-B8BD-318D422C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C510-5C51-41C8-87DA-9A1062E2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61B8-8E20-40F4-A328-4251F1A5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AADCE-6F48-49A7-AB65-C42B92A9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98DB8-1C4C-4FB8-85AA-A773EDA0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9970-870C-4D41-8038-21126E13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E74-BA93-40A3-AECC-C058ECB4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A9A82-4247-44E3-888B-5190038D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2366-EDF9-4D28-886F-2CAEFA76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8A815-2D4C-4847-8695-0F238DC2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22A6-473F-41C1-9EA1-7229CFA0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0C8C-67E6-48ED-BA81-37CC9B59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9F21B-2AA3-441E-A0DA-295718C5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3C6C-20F2-4EB4-8D2D-9DB4B1AF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A54A0-AE15-472D-B71B-6B277BB6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92DB-2FD3-43EF-BFAE-1D62D44D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07C-F232-4B35-A729-0F7B9857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17C-BC0C-4E97-95AB-743B4B68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1B8-EC59-4CBE-A8BC-3CD6854D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4CC-5FAA-4754-A754-05651136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10D-3ADD-4A55-9D02-BA24CAE1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B185-D824-4513-965B-33A87AD3B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9FA-DB43-41D4-BB76-37574D54D1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12F3-8A4D-4C30-86D6-26FC99771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8746-5B14-497E-94D5-A301608AA0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hyperlink" Target="http://www.physicsclassroom.com/mmedia/vectors/mzi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physicsclassroom.com/mmedia/vectors/mzng.cfm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hyperlink" Target="http://www.physicsclassroom.com/mmedia/vectors/mzg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hyperlink" Target="http://www.physicsclassroom.com/mmedia/vectors/mzs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hyperlink" Target="http://www.physicsclassroom.com/mmedia/vectors/mzf.cfm" TargetMode="External"/><Relationship Id="rId3" Type="http://schemas.openxmlformats.org/officeDocument/2006/relationships/hyperlink" Target="http://www.physicsclassroom.com/mmedia/vectors/mzi.cfm" TargetMode="External"/><Relationship Id="rId4" Type="http://schemas.openxmlformats.org/officeDocument/2006/relationships/hyperlink" Target="http://www.physicsclassroom.com/mmedia/vectors/mzi.cfm" TargetMode="Externa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lon-capa.org/~mmp/kap3/cd060.htm" TargetMode="External"/><Relationship Id="rId2" Type="http://schemas.openxmlformats.org/officeDocument/2006/relationships/hyperlink" Target="http://www.walter-fendt.de/ph14e/projectile.htm" TargetMode="External"/><Relationship Id="rId3" Type="http://schemas.openxmlformats.org/officeDocument/2006/relationships/hyperlink" Target="http://www.falstad.com/mathphysics.html" TargetMode="External"/><Relationship Id="rId4" Type="http://schemas.openxmlformats.org/officeDocument/2006/relationships/hyperlink" Target="http://www.falstad.com/mathphysics.html" TargetMode="External"/><Relationship Id="rId5" Type="http://schemas.openxmlformats.org/officeDocument/2006/relationships/hyperlink" Target="http://www.physicsclassroom.com/mmedia/vectors/mzi.cfm" TargetMode="External"/><Relationship Id="rId6" Type="http://schemas.openxmlformats.org/officeDocument/2006/relationships/hyperlink" Target="http://www.physicsclassroom.com/mmedia/vectors/mzi.cf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media.ehs.uen.org/html/PhysicsQ2/Horizontal_Projectiles_03/ramp.jpg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weekr3"/>
          <p:cNvPicPr/>
          <p:nvPr/>
        </p:nvPicPr>
        <p:blipFill>
          <a:blip r:embed="rId1"/>
          <a:stretch/>
        </p:blipFill>
        <p:spPr>
          <a:xfrm>
            <a:off x="1143000" y="804960"/>
            <a:ext cx="6934320" cy="51912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2803680" y="6203880"/>
            <a:ext cx="55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05160" y="6248520"/>
            <a:ext cx="84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colorado.edu/physics/phys1110/phys1110_fa07/mainPage3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133720" y="2514600"/>
            <a:ext cx="495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er: Nate Mohanl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ul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: Sean Hend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523880" y="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alibri"/>
              </a:rPr>
              <a:t>Concept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What do the following situations have in common?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truck is equipped with a flare launcher which is capable of launching a sphere vertically (relative to the truck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lief package drops from a low-flying airpla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-838080">
              <a:lnSpc>
                <a:spcPct val="100000"/>
              </a:lnSpc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Suppose a truck is equipped with a flare launcher which is capable of launching a sphere vertically (relative to the truck). If the truck is in motion and launches the flare and maintains a constant horizontal velocity after the launch, then where will the flare land (neglect air resistance)?</a:t>
            </a:r>
            <a:br>
              <a:rPr sz="28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a. in front of the truck 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b. behind the truck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	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Calibri"/>
              </a:rPr>
              <a:t>c. in the truck</a:t>
            </a:r>
            <a:endParaRPr b="1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tb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304920" y="62802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1143000" y="6324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tb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2. Suppose a rescue airplane drops a relief package while it is moving with a constant horizontal speed at an elevated height. Assuming that air resistance is negligible, where will the relief package land relative to the pl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a. below the plane and behind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b. directly below the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c. below the plane and ahead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pap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019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838080" y="65851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990720" y="649116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pap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Day 2 and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1828800"/>
          <a:ext cx="8007480" cy="4438800"/>
        </p:xfrm>
        <a:graphic>
          <a:graphicData uri="http://schemas.openxmlformats.org/drawingml/2006/table">
            <a:tbl>
              <a:tblPr/>
              <a:tblGrid>
                <a:gridCol w="2187720"/>
                <a:gridCol w="1164960"/>
                <a:gridCol w="1219320"/>
                <a:gridCol w="1600200"/>
                <a:gridCol w="1835280"/>
              </a:tblGrid>
              <a:tr h="731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 of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ching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rate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ec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 Sty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6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y 2 and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cuss how objects release from the same height and projected horizontally and with different masses hit the ground the same ti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abolic motion and angle of pro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aring Horizontal Range :Using formula to verify  maximum  possible range using different angles and a fixed initial velo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Demo- u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wo 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ffe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Ani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oup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xt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s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d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sthetic/Tact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er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ecking for 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estioning of students based on their mathematical knowledg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lve for maximum range using form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oncept qui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63440" y="1828800"/>
          <a:ext cx="8828280" cy="4799160"/>
        </p:xfrm>
        <a:graphic>
          <a:graphicData uri="http://schemas.openxmlformats.org/drawingml/2006/table">
            <a:tbl>
              <a:tblPr/>
              <a:tblGrid>
                <a:gridCol w="2656080"/>
                <a:gridCol w="1600200"/>
                <a:gridCol w="1066680"/>
                <a:gridCol w="1066680"/>
                <a:gridCol w="2438640"/>
              </a:tblGrid>
              <a:tr h="82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 of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ching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rate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ec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rning Sty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y 4: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blem Sol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Analyzing the motion of objects projected horizont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Analyzing more complex projectile mo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lass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rect Instru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vol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Problem Solving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Independent 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Compiling Physics Toolb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sthe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s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d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rculate while students individually solve problems to observe students’ read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cept Cir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Parallel Questio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ig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mm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iz,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50"/>
          <p:cNvSpPr/>
          <p:nvPr/>
        </p:nvSpPr>
        <p:spPr>
          <a:xfrm>
            <a:off x="228600" y="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Day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ept Circl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530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129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ify the strategy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ving one section empty, to be filled by stud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ing one non-example and asking students to find which item does not belong and to justify thei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898560" y="1022400"/>
            <a:ext cx="25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: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7"/>
          <p:cNvSpPr/>
          <p:nvPr/>
        </p:nvSpPr>
        <p:spPr>
          <a:xfrm>
            <a:off x="2651040" y="-12060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s Tool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1760400" y="1757520"/>
            <a:ext cx="338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04920" y="380880"/>
          <a:ext cx="8534160" cy="6088320"/>
        </p:xfrm>
        <a:graphic>
          <a:graphicData uri="http://schemas.openxmlformats.org/drawingml/2006/table">
            <a:tbl>
              <a:tblPr/>
              <a:tblGrid>
                <a:gridCol w="3398760"/>
                <a:gridCol w="5135400"/>
              </a:tblGrid>
              <a:tr h="3034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nematics Equations for Projectile 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izontal 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)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tical (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Mo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dratic Form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rizontal R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1" name="Picture 193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866880" cy="581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7" descr=""/>
          <p:cNvPicPr/>
          <p:nvPr/>
        </p:nvPicPr>
        <p:blipFill>
          <a:blip r:embed="rId2"/>
          <a:stretch/>
        </p:blipFill>
        <p:spPr>
          <a:xfrm>
            <a:off x="4114800" y="1752480"/>
            <a:ext cx="3000240" cy="210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99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2124000" cy="609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00" descr=""/>
          <p:cNvPicPr/>
          <p:nvPr/>
        </p:nvPicPr>
        <p:blipFill>
          <a:blip r:embed="rId4"/>
          <a:stretch/>
        </p:blipFill>
        <p:spPr>
          <a:xfrm>
            <a:off x="4114800" y="5105520"/>
            <a:ext cx="132408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fferentiating Physics Instr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allel Questions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62120" y="1371600"/>
          <a:ext cx="8007120" cy="5084640"/>
        </p:xfrm>
        <a:graphic>
          <a:graphicData uri="http://schemas.openxmlformats.org/drawingml/2006/table">
            <a:tbl>
              <a:tblPr/>
              <a:tblGrid>
                <a:gridCol w="4003560"/>
                <a:gridCol w="4003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hild travels down a water slide, leaving it with a velocity 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 m/s horizontally. The child then exper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ile motion, landing in a swimming p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 m below the sli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) For how long is the child airbor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) Determine the child’s velocity upon entering the wa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helicopter, travelling horizontally, is 82 m above t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. The pilot prepares to release a relief pack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ded to land on the ground 96 m horizontally ahead. 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stance is negligible. The pilot does not throw the package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 lets it drop. What is the initial velocity of the pack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ve to the ground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9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7" name="Picture 36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35268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9" descr=""/>
          <p:cNvPicPr/>
          <p:nvPr/>
        </p:nvPicPr>
        <p:blipFill>
          <a:blip r:embed="rId2"/>
          <a:stretch/>
        </p:blipFill>
        <p:spPr>
          <a:xfrm>
            <a:off x="914400" y="5181480"/>
            <a:ext cx="2209680" cy="609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0" descr=""/>
          <p:cNvPicPr/>
          <p:nvPr/>
        </p:nvPicPr>
        <p:blipFill>
          <a:blip r:embed="rId3"/>
          <a:stretch/>
        </p:blipFill>
        <p:spPr>
          <a:xfrm>
            <a:off x="5867280" y="5257800"/>
            <a:ext cx="1247760" cy="68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990720" y="5791320"/>
            <a:ext cx="1600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 Placement/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Sequence/Teachin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ile Motion Misconceptions /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ies for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and Societal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tudents develop personal “theories of motion” by generalising the ideas they acquire from observation of objects in everyday situations (Keeports, 2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vier objects fall fast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tutorial9-4"/>
          <p:cNvPicPr/>
          <p:nvPr/>
        </p:nvPicPr>
        <p:blipFill>
          <a:blip r:embed="rId1"/>
          <a:stretch/>
        </p:blipFill>
        <p:spPr>
          <a:xfrm>
            <a:off x="1219320" y="2895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utorial9-4"/>
          <p:cNvPicPr/>
          <p:nvPr/>
        </p:nvPicPr>
        <p:blipFill>
          <a:blip r:embed="rId2"/>
          <a:stretch/>
        </p:blipFill>
        <p:spPr>
          <a:xfrm>
            <a:off x="4724280" y="3352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nimation are useful tools for visual lear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ere we see that heavier objects hit the ground at the same time as lighter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falling"/>
          <p:cNvPicPr/>
          <p:nvPr/>
        </p:nvPicPr>
        <p:blipFill>
          <a:blip r:embed="rId1"/>
          <a:stretch/>
        </p:blipFill>
        <p:spPr>
          <a:xfrm>
            <a:off x="5076720" y="1628640"/>
            <a:ext cx="3167280" cy="4608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362960" y="61405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brary.thinkquest.org/2779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sconception # 2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f one object is dropped from a specific point and another is projected forward from the same point, then the projected object will take longer to reach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nsider…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all A falls freely from a specific height and at the same time ball B is thrown horizontally from the same he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(a) How do we compare the acceleration of the two ba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(b) Which ball will hit the ground fir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676520" y="6127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lson: Physics 12 p.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2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3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is animation shows that both objects reach the ground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is illustrates the concept in a different way for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Free Fall 1"/>
          <p:cNvPicPr/>
          <p:nvPr/>
        </p:nvPicPr>
        <p:blipFill>
          <a:blip r:embed="rId1"/>
          <a:stretch/>
        </p:blipFill>
        <p:spPr>
          <a:xfrm>
            <a:off x="4859280" y="1773360"/>
            <a:ext cx="3745080" cy="4464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1371600" y="6127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lson: Physics 12 p.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ibrary.thinkquest.org/2779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3 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arabolic Mo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owing the parabolic nature of projectiles leads the student to believe they are quite different from linear falling or horizontal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 easy way to deal with this is to plot the motion of a freely falling object and a horizontally moving object on the same grap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en the intersection points at the same time, are connected, the result is a parab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 #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2559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2400" spc="-1" strike="noStrike">
                <a:solidFill>
                  <a:srgbClr val="009900"/>
                </a:solidFill>
                <a:latin typeface="Calibri"/>
              </a:rPr>
              <a:t>green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 illustrates uniform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CA" sz="2400" spc="-1" strike="noStrike">
                <a:solidFill>
                  <a:srgbClr val="ff3300"/>
                </a:solidFill>
                <a:latin typeface="Calibri"/>
              </a:rPr>
              <a:t>red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 illustrates free fall and uniform acceler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combination of these two motions at equal time intervals yields the parabolic path shown by the </a:t>
            </a:r>
            <a:r>
              <a:rPr b="0" lang="en-CA" sz="2400" spc="-1" strike="noStrike">
                <a:solidFill>
                  <a:srgbClr val="0066ff"/>
                </a:solidFill>
                <a:latin typeface="Calibri"/>
              </a:rPr>
              <a:t>blue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ba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Horizontal and vertical motion are independent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bds"/>
          <p:cNvPicPr/>
          <p:nvPr/>
        </p:nvPicPr>
        <p:blipFill>
          <a:blip r:embed="rId1"/>
          <a:stretch/>
        </p:blipFill>
        <p:spPr>
          <a:xfrm>
            <a:off x="4572000" y="1341360"/>
            <a:ext cx="4572000" cy="49672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76360" y="630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mmedia/vectors/bds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isconception # 4 </a:t>
            </a:r>
            <a:br>
              <a:rPr sz="4400"/>
            </a:b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Parabolic Mo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t the top (peak) of its trajectory, the velocity of a projectile is always momentarily z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acceleration of the object is also zero, at the 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nsider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 basketball ball is thrown at an angle from one person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velocity of the object at the peak of the fl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 is the acceleration of the object at the peak of the f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638680" y="4313160"/>
            <a:ext cx="2951280" cy="25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Curriculum Placement: BIG IDEA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Grade 2 : Struc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vestigate and describe different kinds of movement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e.g., by observing how toys an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ther everyday objects mo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dentify ways in which the position of an object can be changed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e.g., by pushing, by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pulling, by dropp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3300"/>
                </a:solidFill>
                <a:latin typeface="Calibri"/>
              </a:rPr>
              <a:t>Grade 11 Physics: Kin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otion involves a change in the position of an object over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otion can be described using mathematical relationsh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</a:rPr>
              <a:t>Many technologies that apply concepts related to kinematics have societal and environmental im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Grade 12 Physics: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ces affect motion in predictable and quantifiable w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ces acting on an object will determine the motion of that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ny technologies that utilize the principles of dynamics have societal and environmental implications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Addressing Misconceptions # 4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Have students look at the horizontal and vertical velocity vectors throughout parabolic f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monstrate that the velocity is not zero as there must be some horizontal motion still (it doesn’t stop in midair)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914400" y="63565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057400" y="3246480"/>
            <a:ext cx="504036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# 4 Cont’d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f you throw an object in the air, it stops briefly (vertical velocity is zero) but acceleration is not zero (gravity doesn’t sto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hat is its ro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o change the direction of the velocity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U1L2c3"/>
          <p:cNvPicPr/>
          <p:nvPr/>
        </p:nvPicPr>
        <p:blipFill>
          <a:blip r:embed="rId1"/>
          <a:stretch/>
        </p:blipFill>
        <p:spPr>
          <a:xfrm>
            <a:off x="1523880" y="2895480"/>
            <a:ext cx="5486400" cy="35816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6"/>
          <p:cNvSpPr/>
          <p:nvPr/>
        </p:nvSpPr>
        <p:spPr>
          <a:xfrm>
            <a:off x="1259280" y="6491160"/>
            <a:ext cx="65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physicsclassroom.com/Class/vectors/U3L2c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sconception # 5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believe that the greater the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projection, the greater the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travelled by a project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Activity Nelson Physics 1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ng Horizontal Range p.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formula to ve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332748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Anim'n of 3 Projectiles at 30, 45, and 60-degree Launch Angle"/>
          <p:cNvPicPr/>
          <p:nvPr/>
        </p:nvPicPr>
        <p:blipFill>
          <a:blip r:embed="rId1"/>
          <a:stretch/>
        </p:blipFill>
        <p:spPr>
          <a:xfrm>
            <a:off x="3809880" y="380880"/>
            <a:ext cx="4775400" cy="5561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69960" y="1784520"/>
            <a:ext cx="283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spot the Mistake in this anim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egies for solving problem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d in the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8eaaf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2971800" y="45720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2819520" y="6084720"/>
            <a:ext cx="57322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cGraw-Hill Ryerson Physics 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pplications and Societal Implication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ile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ns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rcus/fir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food in disast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sessment and Evaluatio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Monkey and Banana Proble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 Black"/>
              </a:rPr>
              <a:t>Monkey and Banana</a:t>
            </a:r>
            <a:br>
              <a:rPr sz="4400"/>
            </a:br>
            <a:r>
              <a:rPr b="1" lang="en-US" sz="1600" spc="-1" strike="noStrike" u="sng">
                <a:solidFill>
                  <a:srgbClr val="0066ff"/>
                </a:solidFill>
                <a:uFillTx/>
                <a:latin typeface="Arial Black"/>
                <a:hlinkClick r:id="rId1"/>
              </a:rPr>
              <a:t>Throw at the Monkey in a Gravity Free Environment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7" name="Picture 4" descr="Monkey 1"/>
          <p:cNvPicPr/>
          <p:nvPr/>
        </p:nvPicPr>
        <p:blipFill>
          <a:blip r:embed="rId2"/>
          <a:stretch/>
        </p:blipFill>
        <p:spPr>
          <a:xfrm>
            <a:off x="380880" y="1447920"/>
            <a:ext cx="8458200" cy="464796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5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Monkey 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2270160" y="264960"/>
            <a:ext cx="504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4600" y="3042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bove the Monkey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3300"/>
                </a:solidFill>
                <a:latin typeface="Calibri"/>
              </a:rPr>
              <a:t>A1. Scientific Investigation Skill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5 conduct inquiries, controlling relevant variables, adapting or extending procedures as required, and using appropriate materials and equipment safely, accurately, and effectively, to collect observa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10 draw conclusions based on inquiry results and research findings, and justify their conclusions with reference to scientific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.12 use appropriate numeric (e.g., SI and imperial units), symbolic, and graphic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epresentation (e.g., vector diagrams, free-body diagrams, vector components, and Algebraic equ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Monkey 4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2057400" y="304920"/>
            <a:ext cx="49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828800" y="304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t the Monkey at a Fast Speed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Monkey 3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5"/>
          <p:cNvSpPr/>
          <p:nvPr/>
        </p:nvSpPr>
        <p:spPr>
          <a:xfrm>
            <a:off x="3032280" y="112680"/>
            <a:ext cx="550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8088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Throw at the Monkey at a Slow Speed with Gravity 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38080" y="6546960"/>
            <a:ext cx="6140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www.physicsclassroom.com/mmedia/vectors/mzi.cf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1"/>
              </a:rPr>
              <a:t>http://www.lon-capa.org/~mmp/kap3/cd060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2"/>
              </a:rPr>
              <a:t>http://www.walter-fendt.de/ph14e/projectil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4"/>
              </a:rPr>
              <a:t>www.falstad.com/mathphysi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Calibri"/>
                <a:hlinkClick r:id="rId6"/>
              </a:rPr>
              <a:t>www.physicsclassroom.com/mmedia/vectors/mzi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orts, D. (2000). Addressing physical intuition-a first day event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Physics Teacher,3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318-3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B2. Developing Skills of Investigation and Communicatio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2.1 use appropriate terminology related to dynamics, including, but not limited to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ertial and non-inertial frames of reference, components, centripetal, period, frequency, static fric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inetic fri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2.2 solve problems related to motion, including projectile and relative motion, by adding and subtracting two-dimensional vector quantities, using vector diagrams, vector components, and algebraic methods [PR, AI, 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5345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C1. Relating Science to Technology, Society, and the Environment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1.1 analyse a technological device that applies the principles of linear or circular motion (e.g., a slingshot, a rocket launcher, a race car, a trebuchet) [AI, 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1.2 assess the impact on society and the environment of technological devices that use linear or circular motion (e.g., projectile weapons, centrifuges, elevators) [AI, 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Lesson Sequence</a:t>
            </a: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Day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04920" y="1905120"/>
          <a:ext cx="8540640" cy="4500360"/>
        </p:xfrm>
        <a:graphic>
          <a:graphicData uri="http://schemas.openxmlformats.org/drawingml/2006/table">
            <a:tbl>
              <a:tblPr/>
              <a:tblGrid>
                <a:gridCol w="1904760"/>
                <a:gridCol w="1981440"/>
                <a:gridCol w="1295280"/>
                <a:gridCol w="1295280"/>
                <a:gridCol w="2063880"/>
              </a:tblGrid>
              <a:tr h="78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 of Activ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ing/Learning Strategi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ations Address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Styl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0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Diagnostic l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Projectile 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Vocabulary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ic organ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ing textboo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Group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Independent wor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lete Graph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gan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Demo Project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tion (to reinforce concept qui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sthetic/Tac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gui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agnos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serve students as they complete graphic organizer and perform la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cept qu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ass 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6" descr="ramp"/>
          <p:cNvPicPr/>
          <p:nvPr/>
        </p:nvPicPr>
        <p:blipFill>
          <a:blip r:embed="rId1"/>
          <a:stretch/>
        </p:blipFill>
        <p:spPr>
          <a:xfrm>
            <a:off x="380880" y="609480"/>
            <a:ext cx="3571920" cy="426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projectile-motion"/>
          <p:cNvPicPr/>
          <p:nvPr/>
        </p:nvPicPr>
        <p:blipFill>
          <a:blip r:embed="rId2"/>
          <a:stretch/>
        </p:blipFill>
        <p:spPr>
          <a:xfrm>
            <a:off x="4038480" y="609480"/>
            <a:ext cx="3657600" cy="42674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55800" y="6472080"/>
            <a:ext cx="8488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media.ehs.uen.org/html/PhysicsQ2/Horizontal_Projectiles_03/ramp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09480" y="52578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type of motion is the marble experiencing verticall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type of motion is the marble experiencing horizontall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phic Organizer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229600" cy="45975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Key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Definition/Expla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Horizontal 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Vertical 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Range/Max. Horizontal  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Uniform 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Uniform Accelerated 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Time of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Maximum H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Calibri"/>
                          <a:ea typeface="Times New Roman"/>
                        </a:rPr>
                        <a:t>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00:17:44Z</dcterms:created>
  <dc:creator> Nate</dc:creator>
  <dc:description/>
  <dc:language>en-US</dc:language>
  <cp:lastModifiedBy> Nate</cp:lastModifiedBy>
  <dcterms:modified xsi:type="dcterms:W3CDTF">2010-07-28T00:25:23Z</dcterms:modified>
  <cp:revision>224</cp:revision>
  <dc:subject/>
  <dc:title>Slide 1</dc:title>
</cp:coreProperties>
</file>