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23.gif" ContentType="image/gif"/>
  <Override PartName="/ppt/media/image9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26.gif" ContentType="image/gif"/>
  <Override PartName="/ppt/media/image13.wmf" ContentType="image/x-wmf"/>
  <Override PartName="/ppt/media/image25.gif" ContentType="image/gif"/>
  <Override PartName="/ppt/media/image8.wmf" ContentType="image/x-wmf"/>
  <Override PartName="/ppt/media/image5.gif" ContentType="image/gif"/>
  <Override PartName="/ppt/media/image12.wmf" ContentType="image/x-wmf"/>
  <Override PartName="/ppt/media/image24.gif" ContentType="image/gif"/>
  <Override PartName="/ppt/media/image19.jpeg" ContentType="image/jpeg"/>
  <Override PartName="/ppt/media/image18.gif" ContentType="image/gif"/>
  <Override PartName="/ppt/media/image17.gif" ContentType="image/gif"/>
  <Override PartName="/ppt/media/image2.jpeg" ContentType="image/jpeg"/>
  <Override PartName="/ppt/media/image21.png" ContentType="image/png"/>
  <Override PartName="/ppt/media/image16.gif" ContentType="image/gif"/>
  <Override PartName="/ppt/media/image15.jpeg" ContentType="image/jpeg"/>
  <Override PartName="/ppt/media/image1.jpeg" ContentType="image/jpeg"/>
  <Override PartName="/ppt/media/image27.gif" ContentType="image/gif"/>
  <Override PartName="/ppt/media/image22.jpeg" ContentType="image/jpeg"/>
  <Override PartName="/ppt/media/image4.gif" ContentType="image/gif"/>
  <Override PartName="/ppt/media/image20.jpeg" ContentType="image/jpeg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B4C6-D2DA-48E4-83B6-1AEF18B89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F5A4-2050-4EAF-B104-EF164F9FB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FDF6-FF81-48EB-9B18-BDC5C1688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175E-6A69-4D9E-9EBA-2570E3393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91668-04F0-4CE5-8215-DA612F00A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8DAF6-92D1-4522-BDD9-AEF318929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12E91-456C-4F29-B824-9A501BDBF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97A33-AF2B-40DE-8D94-365DA5EB1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53F72-5FDC-4D38-B121-FFEDE5CB7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3EFF1-855A-45B2-8B65-9D382BD62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5FF03-7549-4C6D-A9F3-041CF8D5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73EF-BA41-4BAF-B3B1-2931ACBC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81609-189D-4F33-A6DD-34856C0D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C49E8-5C3E-4D48-9DD0-969D1845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05823-480B-431F-891A-B3AE0B7EB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F500D-34C5-40A6-B966-C7674289B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59211-8816-4C06-A441-10BF0CF2B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ABAFA-0788-44A9-B379-481106872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E0D92-5BAB-4AF2-B155-C57776AAF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F5585-C158-448A-AB5F-7E2822AC1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538E2-B478-4E4A-BA41-8908A3B89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3760F-FB39-4171-89A7-8B04014D7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962F-89A9-4868-9F14-C9990946A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1B5E2-3116-4F4A-BFD6-A3553ED39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EEEE4-7020-46D1-ABC0-B2117D9E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F53D9-4C30-4861-817B-E78C8008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4B205-BC37-4C62-88C3-9A213BB1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D91C1-6845-4D80-9070-0B5410782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9854B-862C-42EF-98B2-649E91830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EC700-2300-420E-86B0-F6A7C2EBB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36519-A200-4237-9360-B0322B93A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04C84-2868-4BA9-84AC-1C11BEB7E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0968A-F8EB-4295-AF04-11720C52A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4AAD-DBD2-4C5F-9E26-1B18386F5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28A65-2660-4FC1-80C8-67D51FF90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7A0A6-6E9C-41CB-BF3A-B642B6E01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5C05D-3051-4F65-8A3A-5919EFA43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B284B-9ADB-4A5B-AE21-D5B9D5F6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C64BB-33D3-4C47-AC95-796CD7B5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85D3F-716E-4E89-8C7C-02486194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5D852-C28E-45F4-A490-FF9AF823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D8DDE-137E-47AA-9E3A-FA00F1132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6D88B-AB69-4398-808C-B9522B9CB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6DFB-A239-4957-8FFD-85EE95494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E9C4-8816-492B-A2B5-CD2FA0BA0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954E-64CA-4642-96E4-5F2B6DD5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07FD-9F31-4DA9-AF3C-429B4780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539E-BA0A-4F91-ACF3-D3F1B72B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D0F67-3ED2-4665-91FC-05F53303A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9648C-511C-41C1-8C14-E1B13613F25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2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0CE62-5D4B-43B8-AC05-F89BCAF90F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40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670A4-3554-4D8E-B5E6-7E7F85A94C7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hyperlink" Target="http://www.physicsclassroom.com/mmedia/vectors/mzi.cfm" TargetMode="External"/><Relationship Id="rId3" Type="http://schemas.openxmlformats.org/officeDocument/2006/relationships/hyperlink" Target="http://www.physicsclassroom.com/mmedia/vectors/mzi.cfm" TargetMode="External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physicsclassroom.com/mmedia/vectors/mzng.cfm" TargetMode="External"/><Relationship Id="rId2" Type="http://schemas.openxmlformats.org/officeDocument/2006/relationships/image" Target="../media/image24.gif"/><Relationship Id="rId3" Type="http://schemas.openxmlformats.org/officeDocument/2006/relationships/hyperlink" Target="http://www.physicsclassroom.com/mmedia/vectors/mzi.cfm" TargetMode="External"/><Relationship Id="rId4" Type="http://schemas.openxmlformats.org/officeDocument/2006/relationships/hyperlink" Target="http://www.physicsclassroom.com/mmedia/vectors/mzi.cfm" TargetMode="External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hyperlink" Target="http://www.physicsclassroom.com/mmedia/vectors/mzg.cfm" TargetMode="External"/><Relationship Id="rId3" Type="http://schemas.openxmlformats.org/officeDocument/2006/relationships/hyperlink" Target="http://www.physicsclassroom.com/mmedia/vectors/mzi.cfm" TargetMode="External"/><Relationship Id="rId4" Type="http://schemas.openxmlformats.org/officeDocument/2006/relationships/hyperlink" Target="http://www.physicsclassroom.com/mmedia/vectors/mzi.cfm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hyperlink" Target="http://www.physicsclassroom.com/mmedia/vectors/mzs.cfm" TargetMode="External"/><Relationship Id="rId3" Type="http://schemas.openxmlformats.org/officeDocument/2006/relationships/hyperlink" Target="http://www.physicsclassroom.com/mmedia/vectors/mzi.cfm" TargetMode="External"/><Relationship Id="rId4" Type="http://schemas.openxmlformats.org/officeDocument/2006/relationships/hyperlink" Target="http://www.physicsclassroom.com/mmedia/vectors/mzi.cfm" TargetMode="External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hyperlink" Target="http://www.physicsclassroom.com/mmedia/vectors/mzf.cfm" TargetMode="External"/><Relationship Id="rId3" Type="http://schemas.openxmlformats.org/officeDocument/2006/relationships/hyperlink" Target="http://www.physicsclassroom.com/mmedia/vectors/mzi.cfm" TargetMode="External"/><Relationship Id="rId4" Type="http://schemas.openxmlformats.org/officeDocument/2006/relationships/hyperlink" Target="http://www.physicsclassroom.com/mmedia/vectors/mzi.cfm" TargetMode="External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lon-capa.org/~mmp/kap3/cd060.htm" TargetMode="External"/><Relationship Id="rId2" Type="http://schemas.openxmlformats.org/officeDocument/2006/relationships/hyperlink" Target="http://www.walter-fendt.de/ph14e/projectile.htm" TargetMode="External"/><Relationship Id="rId3" Type="http://schemas.openxmlformats.org/officeDocument/2006/relationships/hyperlink" Target="http://www.falstad.com/mathphysics.html" TargetMode="External"/><Relationship Id="rId4" Type="http://schemas.openxmlformats.org/officeDocument/2006/relationships/hyperlink" Target="http://www.falstad.com/mathphysics.html" TargetMode="External"/><Relationship Id="rId5" Type="http://schemas.openxmlformats.org/officeDocument/2006/relationships/hyperlink" Target="http://www.physicsclassroom.com/mmedia/vectors/mzi.cfm" TargetMode="External"/><Relationship Id="rId6" Type="http://schemas.openxmlformats.org/officeDocument/2006/relationships/hyperlink" Target="http://www.physicsclassroom.com/mmedia/vectors/mzi.cfm" TargetMode="Externa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hyperlink" Target="http://media.ehs.uen.org/html/PhysicsQ2/Horizontal_Projectiles_03/ramp.jpg" TargetMode="External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weekr3"/>
          <p:cNvPicPr/>
          <p:nvPr/>
        </p:nvPicPr>
        <p:blipFill>
          <a:blip r:embed="rId1"/>
          <a:stretch/>
        </p:blipFill>
        <p:spPr>
          <a:xfrm>
            <a:off x="1143000" y="804960"/>
            <a:ext cx="6934320" cy="51912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3"/>
          <p:cNvSpPr/>
          <p:nvPr/>
        </p:nvSpPr>
        <p:spPr>
          <a:xfrm>
            <a:off x="2803680" y="6203880"/>
            <a:ext cx="550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605160" y="6248520"/>
            <a:ext cx="84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ttp://www.colorado.edu/physics/phys1110/phys1110_fa07/mainPage3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2133720" y="2514600"/>
            <a:ext cx="4952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jectile Mo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enter: Nate Mohanl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July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ntor: Sean Hender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1523880" y="0"/>
            <a:ext cx="655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Calibri"/>
              </a:rPr>
              <a:t>Concept Presen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alibri"/>
              </a:rPr>
              <a:t>What do the following situations have in common?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truck is equipped with a flare launcher which is capable of launching a sphere vertically (relative to the truck)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relief package drops from a low-flying airplan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-838080">
              <a:lnSpc>
                <a:spcPct val="100000"/>
              </a:lnSpc>
              <a:buClr>
                <a:srgbClr val="ff33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Suppose a truck is equipped with a flare launcher which is capable of launching a sphere vertically (relative to the truck). If the truck is in motion and launches the flare and maintains a constant horizontal velocity after the launch, then where will the flare land (neglect air resistance)?</a:t>
            </a:r>
            <a:br>
              <a:rPr sz="2800"/>
            </a:br>
            <a:r>
              <a:rPr b="1" lang="en-US" sz="3400" spc="-1" strike="noStrike">
                <a:solidFill>
                  <a:srgbClr val="0033cc"/>
                </a:solidFill>
                <a:latin typeface="Calibri"/>
              </a:rPr>
              <a:t>a. in front of the truck </a:t>
            </a:r>
            <a:r>
              <a:rPr b="1" lang="en-US" sz="3400" spc="-1" strike="noStrike">
                <a:solidFill>
                  <a:srgbClr val="0033cc"/>
                </a:solidFill>
                <a:latin typeface="Calibri"/>
              </a:rPr>
              <a:t>	</a:t>
            </a:r>
            <a:br>
              <a:rPr sz="3400"/>
            </a:br>
            <a:r>
              <a:rPr b="1" lang="en-US" sz="3400" spc="-1" strike="noStrike">
                <a:solidFill>
                  <a:srgbClr val="0033cc"/>
                </a:solidFill>
                <a:latin typeface="Calibri"/>
              </a:rPr>
              <a:t>b. behind the truck</a:t>
            </a:r>
            <a:r>
              <a:rPr b="1" lang="en-US" sz="3400" spc="-1" strike="noStrike">
                <a:solidFill>
                  <a:srgbClr val="0033cc"/>
                </a:solidFill>
                <a:latin typeface="Calibri"/>
              </a:rPr>
              <a:t>	</a:t>
            </a:r>
            <a:r>
              <a:rPr b="1" lang="en-US" sz="3400" spc="-1" strike="noStrike">
                <a:solidFill>
                  <a:srgbClr val="0033cc"/>
                </a:solidFill>
                <a:latin typeface="Calibri"/>
              </a:rPr>
              <a:t>	</a:t>
            </a:r>
            <a:br>
              <a:rPr sz="3400"/>
            </a:br>
            <a:r>
              <a:rPr b="1" lang="en-US" sz="3400" spc="-1" strike="noStrike">
                <a:solidFill>
                  <a:srgbClr val="0033cc"/>
                </a:solidFill>
                <a:latin typeface="Calibri"/>
              </a:rPr>
              <a:t>c. in the truck</a:t>
            </a:r>
            <a:endParaRPr b="1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tb"/>
          <p:cNvPicPr/>
          <p:nvPr/>
        </p:nvPicPr>
        <p:blipFill>
          <a:blip r:embed="rId1"/>
          <a:stretch/>
        </p:blipFill>
        <p:spPr>
          <a:xfrm>
            <a:off x="457200" y="304920"/>
            <a:ext cx="8686800" cy="594360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5"/>
          <p:cNvSpPr/>
          <p:nvPr/>
        </p:nvSpPr>
        <p:spPr>
          <a:xfrm>
            <a:off x="304920" y="628020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1143000" y="63244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ttp://www.physicsclassroom.com/mmedia/vectors/tb.cf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58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2. Suppose a rescue airplane drops a relief package while it is moving with a constant horizontal speed at an elevated height. Assuming that air resistance is negligible, where will the relief package land relative to the pla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Calibri"/>
              </a:rPr>
              <a:t>a. below the plane and behind 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Calibri"/>
              </a:rPr>
              <a:t>b. directly below the pl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Calibri"/>
              </a:rPr>
              <a:t>c. below the plane and ahead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5" descr="pap"/>
          <p:cNvPicPr/>
          <p:nvPr/>
        </p:nvPicPr>
        <p:blipFill>
          <a:blip r:embed="rId1"/>
          <a:stretch/>
        </p:blipFill>
        <p:spPr>
          <a:xfrm>
            <a:off x="304920" y="304920"/>
            <a:ext cx="8458200" cy="601956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8"/>
          <p:cNvSpPr/>
          <p:nvPr/>
        </p:nvSpPr>
        <p:spPr>
          <a:xfrm>
            <a:off x="838080" y="6585120"/>
            <a:ext cx="7696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9"/>
          <p:cNvSpPr/>
          <p:nvPr/>
        </p:nvSpPr>
        <p:spPr>
          <a:xfrm>
            <a:off x="990720" y="6491160"/>
            <a:ext cx="670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ttp://www.physicsclassroom.com/mmedia/vectors/pap.cf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alibri"/>
              </a:rPr>
              <a:t>Lesson sequence</a:t>
            </a:r>
            <a:br>
              <a:rPr sz="4400"/>
            </a:br>
            <a:r>
              <a:rPr b="1" lang="en-US" sz="4400" spc="-1" strike="noStrike">
                <a:solidFill>
                  <a:srgbClr val="ff3300"/>
                </a:solidFill>
                <a:latin typeface="Calibri"/>
              </a:rPr>
              <a:t>Day 2 and 3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685800" y="1828800"/>
          <a:ext cx="8007480" cy="4438800"/>
        </p:xfrm>
        <a:graphic>
          <a:graphicData uri="http://schemas.openxmlformats.org/drawingml/2006/table">
            <a:tbl>
              <a:tblPr/>
              <a:tblGrid>
                <a:gridCol w="2187720"/>
                <a:gridCol w="1164960"/>
                <a:gridCol w="1219320"/>
                <a:gridCol w="1600200"/>
                <a:gridCol w="1835280"/>
              </a:tblGrid>
              <a:tr h="7318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escription of 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eaching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arn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trateg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xpect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ddres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arning Sty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ssess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69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y 2 and 3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cuss how objects release from the same height and projected horizontally and with different masses hit the ground the same tim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arabolic motion and angle of proj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aring Horizontal Range :Using formula to verify  maximum  possible range using different angles and a fixed initial veloc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Demo- us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wo ob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ffer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s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Anim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vestig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roup wo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extbo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is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udit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inesthetic/Tact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terpers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orm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hecking for understan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Questioning of students based on their mathematical knowledg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olve for maximum range using formu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concept qui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163440" y="1828800"/>
          <a:ext cx="8828280" cy="4799160"/>
        </p:xfrm>
        <a:graphic>
          <a:graphicData uri="http://schemas.openxmlformats.org/drawingml/2006/table">
            <a:tbl>
              <a:tblPr/>
              <a:tblGrid>
                <a:gridCol w="2656080"/>
                <a:gridCol w="1600200"/>
                <a:gridCol w="1066680"/>
                <a:gridCol w="1066680"/>
                <a:gridCol w="2438640"/>
              </a:tblGrid>
              <a:tr h="820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escription of 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eaching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arn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trateg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xpect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arning Sty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ssess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8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y 4: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blem Solv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Analyzing the motion of objects projected horizontal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Analyzing more complex projectile mo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Class 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rect Instruction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tudent invol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Problem Solving Strateg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Independent work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Compiling Physics Toolb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2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inesthet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is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udit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orma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rculate while students individually solve problems to observe students’ readin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cept Circ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Parallel Questio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ssign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mma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Quiz, T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Rectangle 50"/>
          <p:cNvSpPr/>
          <p:nvPr/>
        </p:nvSpPr>
        <p:spPr>
          <a:xfrm>
            <a:off x="228600" y="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alibri"/>
              </a:rPr>
              <a:t>Lesson sequence</a:t>
            </a:r>
            <a:br>
              <a:rPr sz="3600"/>
            </a:br>
            <a:r>
              <a:rPr b="1" lang="en-US" sz="3600" spc="-1" strike="noStrike">
                <a:solidFill>
                  <a:srgbClr val="ff3300"/>
                </a:solidFill>
                <a:latin typeface="Calibri"/>
              </a:rPr>
              <a:t>Day 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ncept Circle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4038480" cy="453096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912920" y="1904760"/>
            <a:ext cx="3932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ify the strategy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aving one section empty, to be filled by studen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luding one non-example and asking students to find which item does not belong and to justify their ans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898560" y="1022400"/>
            <a:ext cx="253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pt: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7"/>
          <p:cNvSpPr/>
          <p:nvPr/>
        </p:nvSpPr>
        <p:spPr>
          <a:xfrm>
            <a:off x="2651040" y="-120600"/>
            <a:ext cx="329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hysics Toolbo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Rectangle 12"/>
          <p:cNvSpPr/>
          <p:nvPr/>
        </p:nvSpPr>
        <p:spPr>
          <a:xfrm>
            <a:off x="1760400" y="1757520"/>
            <a:ext cx="3383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15"/>
          <p:cNvSpPr/>
          <p:nvPr/>
        </p:nvSpPr>
        <p:spPr>
          <a:xfrm>
            <a:off x="1760400" y="1757520"/>
            <a:ext cx="3383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18"/>
          <p:cNvSpPr/>
          <p:nvPr/>
        </p:nvSpPr>
        <p:spPr>
          <a:xfrm>
            <a:off x="1760400" y="1757520"/>
            <a:ext cx="3383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Rectangle 21"/>
          <p:cNvSpPr/>
          <p:nvPr/>
        </p:nvSpPr>
        <p:spPr>
          <a:xfrm>
            <a:off x="1760400" y="1757520"/>
            <a:ext cx="3383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304920" y="380880"/>
          <a:ext cx="8534160" cy="6088320"/>
        </p:xfrm>
        <a:graphic>
          <a:graphicData uri="http://schemas.openxmlformats.org/drawingml/2006/table">
            <a:tbl>
              <a:tblPr/>
              <a:tblGrid>
                <a:gridCol w="3398760"/>
                <a:gridCol w="5135400"/>
              </a:tblGrid>
              <a:tr h="3034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inematics Equations for Projectile Mo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escri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ormu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izontal (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4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tical (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Mo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5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Quadratic Formu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5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orizontal Ran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t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51" name="Picture 193" descr=""/>
          <p:cNvPicPr/>
          <p:nvPr/>
        </p:nvPicPr>
        <p:blipFill>
          <a:blip r:embed="rId1"/>
          <a:stretch/>
        </p:blipFill>
        <p:spPr>
          <a:xfrm>
            <a:off x="4114800" y="1066680"/>
            <a:ext cx="866880" cy="5810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97" descr=""/>
          <p:cNvPicPr/>
          <p:nvPr/>
        </p:nvPicPr>
        <p:blipFill>
          <a:blip r:embed="rId2"/>
          <a:stretch/>
        </p:blipFill>
        <p:spPr>
          <a:xfrm>
            <a:off x="4114800" y="1752480"/>
            <a:ext cx="3000240" cy="21052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99" descr=""/>
          <p:cNvPicPr/>
          <p:nvPr/>
        </p:nvPicPr>
        <p:blipFill>
          <a:blip r:embed="rId3"/>
          <a:stretch/>
        </p:blipFill>
        <p:spPr>
          <a:xfrm>
            <a:off x="3962520" y="3962520"/>
            <a:ext cx="2124000" cy="6094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00" descr=""/>
          <p:cNvPicPr/>
          <p:nvPr/>
        </p:nvPicPr>
        <p:blipFill>
          <a:blip r:embed="rId4"/>
          <a:stretch/>
        </p:blipFill>
        <p:spPr>
          <a:xfrm>
            <a:off x="4114800" y="5105520"/>
            <a:ext cx="1324080" cy="48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ifferentiating Physics Instructio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arallel Questions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762120" y="1371600"/>
          <a:ext cx="8007120" cy="5084640"/>
        </p:xfrm>
        <a:graphic>
          <a:graphicData uri="http://schemas.openxmlformats.org/drawingml/2006/table">
            <a:tbl>
              <a:tblPr/>
              <a:tblGrid>
                <a:gridCol w="4003560"/>
                <a:gridCol w="40035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child travels down a water slide, leaving it with a velocity o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2 m/s horizontally. The child then experien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jectile motion, landing in a swimming po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 m below the slid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a) For how long is the child airborn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b) Determine the child’s velocity upon entering the wate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helicopter, travelling horizontally, is 82 m above t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und. The pilot prepares to release a relief pack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nded to land on the ground 96 m horizontally ahead. Ai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istance is negligible. The pilot does not throw the package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t lets it drop. What is the initial velocity of the pack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ative to the ground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90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57" name="Picture 36" descr=""/>
          <p:cNvPicPr/>
          <p:nvPr/>
        </p:nvPicPr>
        <p:blipFill>
          <a:blip r:embed="rId1"/>
          <a:stretch/>
        </p:blipFill>
        <p:spPr>
          <a:xfrm>
            <a:off x="2971800" y="3276720"/>
            <a:ext cx="3352680" cy="18288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9" descr=""/>
          <p:cNvPicPr/>
          <p:nvPr/>
        </p:nvPicPr>
        <p:blipFill>
          <a:blip r:embed="rId2"/>
          <a:stretch/>
        </p:blipFill>
        <p:spPr>
          <a:xfrm>
            <a:off x="914400" y="5181480"/>
            <a:ext cx="2209680" cy="6098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0" descr=""/>
          <p:cNvPicPr/>
          <p:nvPr/>
        </p:nvPicPr>
        <p:blipFill>
          <a:blip r:embed="rId3"/>
          <a:stretch/>
        </p:blipFill>
        <p:spPr>
          <a:xfrm>
            <a:off x="5867280" y="5257800"/>
            <a:ext cx="1247760" cy="6858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4"/>
          <a:stretch/>
        </p:blipFill>
        <p:spPr>
          <a:xfrm>
            <a:off x="990720" y="5791320"/>
            <a:ext cx="160020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alibri"/>
              </a:rPr>
              <a:t>Overview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rriculum Placement/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son Sequence/Teaching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jectile Motion Misconceptions /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ategies for solving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lications and Societal Im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essment and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Calibri"/>
              </a:rPr>
              <a:t>Misconception # 1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Students develop personal “theories of motion” by generalising the ideas they acquire from observation of objects in everyday situations (Keeports, 2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Heavier objects fall faster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5" descr="tutorial9-4"/>
          <p:cNvPicPr/>
          <p:nvPr/>
        </p:nvPicPr>
        <p:blipFill>
          <a:blip r:embed="rId1"/>
          <a:stretch/>
        </p:blipFill>
        <p:spPr>
          <a:xfrm>
            <a:off x="1219320" y="28954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6" descr="tutorial9-4"/>
          <p:cNvPicPr/>
          <p:nvPr/>
        </p:nvPicPr>
        <p:blipFill>
          <a:blip r:embed="rId2"/>
          <a:stretch/>
        </p:blipFill>
        <p:spPr>
          <a:xfrm>
            <a:off x="4724280" y="335268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Calibri"/>
              </a:rPr>
              <a:t>Addressing Misconception # 1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Animation are useful tools for visual learn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Here we see that heavier objects hit the ground at the same time as lighter on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4" descr="falling"/>
          <p:cNvPicPr/>
          <p:nvPr/>
        </p:nvPicPr>
        <p:blipFill>
          <a:blip r:embed="rId1"/>
          <a:stretch/>
        </p:blipFill>
        <p:spPr>
          <a:xfrm>
            <a:off x="5076720" y="1628640"/>
            <a:ext cx="3167280" cy="460872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7"/>
          <p:cNvSpPr/>
          <p:nvPr/>
        </p:nvSpPr>
        <p:spPr>
          <a:xfrm>
            <a:off x="1362960" y="614052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library.thinkquest.org/2779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isconception # 2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f one object is dropped from a specific point and another is projected forward from the same point, then the projected object will take longer to reach the grou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Consider…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Ball A falls freely from a specific height and at the same time ball B is thrown horizontally from the same heigh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(a) How do we compare the acceleration of the two bal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(b) Which ball will hit the ground first?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1676520" y="612792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lson: Physics 12 p.4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Calibri"/>
              </a:rPr>
              <a:t>Addressing Misconception # 2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34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This animation shows that both objects reach the ground at the same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this illustrates the concept in a different way for Visual lear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4" descr="Free Fall 1"/>
          <p:cNvPicPr/>
          <p:nvPr/>
        </p:nvPicPr>
        <p:blipFill>
          <a:blip r:embed="rId1"/>
          <a:stretch/>
        </p:blipFill>
        <p:spPr>
          <a:xfrm>
            <a:off x="4859280" y="1773360"/>
            <a:ext cx="3745080" cy="44640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5"/>
          <p:cNvSpPr/>
          <p:nvPr/>
        </p:nvSpPr>
        <p:spPr>
          <a:xfrm>
            <a:off x="1371600" y="612792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lson: Physics 12 p.4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library.thinkquest.org/2779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Calibri"/>
              </a:rPr>
              <a:t>Misconception # 3 </a:t>
            </a:r>
            <a:br>
              <a:rPr sz="4400"/>
            </a:br>
            <a:r>
              <a:rPr b="1" lang="en-CA" sz="4400" spc="-1" strike="noStrike">
                <a:solidFill>
                  <a:srgbClr val="000000"/>
                </a:solidFill>
                <a:latin typeface="Calibri"/>
              </a:rPr>
              <a:t>Parabolic Motion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421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howing the parabolic nature of projectiles leads the student to believe they are quite different from linear falling or horizontal m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Calibri"/>
              </a:rPr>
              <a:t>Addressing Misconception # 3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8930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n easy way to deal with this is to plot the motion of a freely falling object and a horizontally moving object on the same graph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hen the intersection points at the same time, are connected, the result is a parabo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Calibri"/>
              </a:rPr>
              <a:t>Addressing Misconception # 3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42559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CA" sz="2400" spc="-1" strike="noStrike">
                <a:solidFill>
                  <a:srgbClr val="009900"/>
                </a:solidFill>
                <a:latin typeface="Calibri"/>
              </a:rPr>
              <a:t>green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 ball illustrates uniform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CA" sz="2400" spc="-1" strike="noStrike">
                <a:solidFill>
                  <a:srgbClr val="ff3300"/>
                </a:solidFill>
                <a:latin typeface="Calibri"/>
              </a:rPr>
              <a:t>red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 ball illustrates free fall and uniform accelerated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The combination of these two motions at equal time intervals yields the parabolic path shown by the </a:t>
            </a:r>
            <a:r>
              <a:rPr b="0" lang="en-CA" sz="2400" spc="-1" strike="noStrike">
                <a:solidFill>
                  <a:srgbClr val="0066ff"/>
                </a:solidFill>
                <a:latin typeface="Calibri"/>
              </a:rPr>
              <a:t>blue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 bal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Horizontal and vertical motion are independent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4" descr="bds"/>
          <p:cNvPicPr/>
          <p:nvPr/>
        </p:nvPicPr>
        <p:blipFill>
          <a:blip r:embed="rId1"/>
          <a:stretch/>
        </p:blipFill>
        <p:spPr>
          <a:xfrm>
            <a:off x="4572000" y="1341360"/>
            <a:ext cx="4572000" cy="496728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5"/>
          <p:cNvSpPr/>
          <p:nvPr/>
        </p:nvSpPr>
        <p:spPr>
          <a:xfrm>
            <a:off x="1476360" y="6308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ttp://www.physicsclassroom.com/mmedia/vectors/bds.gi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Calibri"/>
              </a:rPr>
              <a:t>Misconception # 4 </a:t>
            </a:r>
            <a:br>
              <a:rPr sz="4400"/>
            </a:br>
            <a:r>
              <a:rPr b="1" lang="en-CA" sz="4400" spc="-1" strike="noStrike">
                <a:solidFill>
                  <a:srgbClr val="000000"/>
                </a:solidFill>
                <a:latin typeface="Calibri"/>
              </a:rPr>
              <a:t>Parabolic Motion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t the top (peak) of its trajectory, the velocity of a projectile is always momentarily zer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acceleration of the object is also zero, at the p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Consider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 basketball ball is thrown at an angle from one person to anoth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hat is the velocity of the object at the peak of the fligh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hat is the acceleration of the object at the peak of the fl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638680" y="4313160"/>
            <a:ext cx="2951280" cy="254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Curriculum Placement: BIG IDEAS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alibri"/>
              </a:rPr>
              <a:t>Grade 2 : Structur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nvestigate and describe different kinds of movement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(e.g., by observing how toys and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other everyday objects mo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dentify ways in which the position of an object can be changed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(e.g., by pushing, by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pulling, by dropp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ff3300"/>
                </a:solidFill>
                <a:latin typeface="Calibri"/>
              </a:rPr>
              <a:t>Grade 11 Physics: Kinema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Calibri"/>
              </a:rPr>
              <a:t>Motion involves a change in the position of an object over ti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Calibri"/>
              </a:rPr>
              <a:t>Motion can be described using mathematical relationship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Calibri"/>
              </a:rPr>
              <a:t>Many technologies that apply concepts related to kinematics have societal and environmental implica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alibri"/>
              </a:rPr>
              <a:t>Grade 12 Physics: Dyna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orces affect motion in predictable and quantifiable way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orces acting on an object will determine the motion of that objec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Many technologies that utilize the principles of dynamics have societal and environmental implications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Calibri"/>
              </a:rPr>
              <a:t>Addressing Misconceptions # 4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Have students look at the horizontal and vertical velocity vectors throughout parabolic fligh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Demonstrate that the velocity is not zero as there must be some horizontal motion still (it doesn’t stop in midair).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914400" y="6356520"/>
            <a:ext cx="655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2057400" y="3246480"/>
            <a:ext cx="5040360" cy="361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# 4 Cont’d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If you throw an object in the air, it stops briefly (vertical velocity is zero) but acceleration is not zero (gravity doesn’t stop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What is its rol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To change the direction of the velocity ve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5" descr="U1L2c3"/>
          <p:cNvPicPr/>
          <p:nvPr/>
        </p:nvPicPr>
        <p:blipFill>
          <a:blip r:embed="rId1"/>
          <a:stretch/>
        </p:blipFill>
        <p:spPr>
          <a:xfrm>
            <a:off x="1523880" y="2895480"/>
            <a:ext cx="5486400" cy="358164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6"/>
          <p:cNvSpPr/>
          <p:nvPr/>
        </p:nvSpPr>
        <p:spPr>
          <a:xfrm>
            <a:off x="1259280" y="6491160"/>
            <a:ext cx="65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ttp://www.physicsclassroom.com/Class/vectors/U3L2c.cf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isconception # 5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ents believe that the greater the 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projection, the greater the horizo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tance travelled by a projecti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ss Activity Nelson Physics 12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aring Horizontal Range p.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formula to ver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5257800" y="3733920"/>
            <a:ext cx="3327480" cy="255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Anim'n of 3 Projectiles at 30, 45, and 60-degree Launch Angle"/>
          <p:cNvPicPr/>
          <p:nvPr/>
        </p:nvPicPr>
        <p:blipFill>
          <a:blip r:embed="rId1"/>
          <a:stretch/>
        </p:blipFill>
        <p:spPr>
          <a:xfrm>
            <a:off x="3809880" y="380880"/>
            <a:ext cx="4775400" cy="556128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5"/>
          <p:cNvSpPr/>
          <p:nvPr/>
        </p:nvSpPr>
        <p:spPr>
          <a:xfrm>
            <a:off x="838080" y="6546960"/>
            <a:ext cx="61405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3"/>
              </a:rPr>
              <a:t>www.physicsclassroom.com/mmedia/vectors/mzi.cf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669960" y="1784520"/>
            <a:ext cx="2835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you spot the Mistake in this animat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trategies for solving problems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e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G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 and Cons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8eaaf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olved in the probl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8eaaf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n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8eaaf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8eaaf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kn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i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7"/>
          <p:cNvSpPr/>
          <p:nvPr/>
        </p:nvSpPr>
        <p:spPr>
          <a:xfrm>
            <a:off x="2971800" y="4572000"/>
            <a:ext cx="228600" cy="838080"/>
          </a:xfrm>
          <a:custGeom>
            <a:avLst/>
            <a:gdLst>
              <a:gd name="textAreaLeft" fmla="*/ 0 w 228600"/>
              <a:gd name="textAreaRight" fmla="*/ 8244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Text Box 8"/>
          <p:cNvSpPr/>
          <p:nvPr/>
        </p:nvSpPr>
        <p:spPr>
          <a:xfrm>
            <a:off x="2819520" y="6084720"/>
            <a:ext cx="573228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cGraw-Hill Ryerson Physics 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pplications and Societal Implications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jectile Weap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ens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est F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ircus/fire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op food in disaster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ssessment and Evaluation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ig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i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Monkey and Banana Problem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Arial Black"/>
              </a:rPr>
              <a:t>Monkey and Banana</a:t>
            </a:r>
            <a:br>
              <a:rPr sz="4400"/>
            </a:br>
            <a:r>
              <a:rPr b="1" lang="en-US" sz="1600" spc="-1" strike="noStrike" u="sng">
                <a:solidFill>
                  <a:srgbClr val="0066ff"/>
                </a:solidFill>
                <a:uFillTx/>
                <a:latin typeface="Arial Black"/>
                <a:hlinkClick r:id="rId1"/>
              </a:rPr>
              <a:t>Throw at the Monkey in a Gravity Free Environment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17" name="Picture 4" descr="Monkey 1"/>
          <p:cNvPicPr/>
          <p:nvPr/>
        </p:nvPicPr>
        <p:blipFill>
          <a:blip r:embed="rId2"/>
          <a:stretch/>
        </p:blipFill>
        <p:spPr>
          <a:xfrm>
            <a:off x="380880" y="1447920"/>
            <a:ext cx="8458200" cy="4647960"/>
          </a:xfrm>
          <a:prstGeom prst="rect">
            <a:avLst/>
          </a:prstGeom>
          <a:ln w="0">
            <a:noFill/>
          </a:ln>
        </p:spPr>
      </p:pic>
      <p:sp>
        <p:nvSpPr>
          <p:cNvPr id="318" name="Rectangle 5"/>
          <p:cNvSpPr/>
          <p:nvPr/>
        </p:nvSpPr>
        <p:spPr>
          <a:xfrm>
            <a:off x="838080" y="6546960"/>
            <a:ext cx="61405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4"/>
              </a:rPr>
              <a:t>www.physicsclassroom.com/mmedia/vectors/mzi.cf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4" descr="Monkey 2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5"/>
          <p:cNvSpPr/>
          <p:nvPr/>
        </p:nvSpPr>
        <p:spPr>
          <a:xfrm>
            <a:off x="2270160" y="264960"/>
            <a:ext cx="504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Rectangle 6"/>
          <p:cNvSpPr/>
          <p:nvPr/>
        </p:nvSpPr>
        <p:spPr>
          <a:xfrm>
            <a:off x="2514600" y="3042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2"/>
              </a:rPr>
              <a:t>Throw above the Monkey with Gravity O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838080" y="6546960"/>
            <a:ext cx="61405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4"/>
              </a:rPr>
              <a:t>www.physicsclassroom.com/mmedia/vectors/mzi.cf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3300"/>
                </a:solidFill>
                <a:latin typeface="Calibri"/>
              </a:rPr>
              <a:t>A1. Scientific Investigation Skills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1.5 conduct inquiries, controlling relevant variables, adapting or extending procedures as required, and using appropriate materials and equipment safely, accurately, and effectively, to collect observations an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1.10 draw conclusions based on inquiry results and research findings, and justify their conclusions with reference to scientific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1.12 use appropriate numeric (e.g., SI and imperial units), symbolic, and graphic m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representation (e.g., vector diagrams, free-body diagrams, vector components, and Algebraic equ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6" descr="Monkey 4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7"/>
          <p:cNvSpPr/>
          <p:nvPr/>
        </p:nvSpPr>
        <p:spPr>
          <a:xfrm>
            <a:off x="2057400" y="304920"/>
            <a:ext cx="4952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Rectangle 8"/>
          <p:cNvSpPr/>
          <p:nvPr/>
        </p:nvSpPr>
        <p:spPr>
          <a:xfrm>
            <a:off x="1828800" y="30420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2"/>
              </a:rPr>
              <a:t>Throw at the Monkey at a Fast Speed with Gravity O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Rectangle 9"/>
          <p:cNvSpPr/>
          <p:nvPr/>
        </p:nvSpPr>
        <p:spPr>
          <a:xfrm>
            <a:off x="838080" y="6546960"/>
            <a:ext cx="61405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4"/>
              </a:rPr>
              <a:t>www.physicsclassroom.com/mmedia/vectors/mzi.cf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4" descr="Monkey 3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5"/>
          <p:cNvSpPr/>
          <p:nvPr/>
        </p:nvSpPr>
        <p:spPr>
          <a:xfrm>
            <a:off x="3032280" y="112680"/>
            <a:ext cx="550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38088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2"/>
              </a:rPr>
              <a:t>Throw at the Monkey at a Slow Speed with Gravity O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838080" y="6546960"/>
            <a:ext cx="61405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4"/>
              </a:rPr>
              <a:t>www.physicsclassroom.com/mmedia/vectors/mzi.cf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Calibri"/>
                <a:hlinkClick r:id="rId1"/>
              </a:rPr>
              <a:t>http://www.lon-capa.org/~mmp/kap3/cd060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Calibri"/>
                <a:hlinkClick r:id="rId2"/>
              </a:rPr>
              <a:t>http://www.walter-fendt.de/ph14e/projectile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Calibri"/>
                <a:hlinkClick r:id="rId3"/>
              </a:rPr>
              <a:t>http://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Calibri"/>
                <a:hlinkClick r:id="rId4"/>
              </a:rPr>
              <a:t>www.falstad.com/mathphysics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Calibri"/>
                <a:hlinkClick r:id="rId5"/>
              </a:rPr>
              <a:t>http://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Calibri"/>
                <a:hlinkClick r:id="rId6"/>
              </a:rPr>
              <a:t>www.physicsclassroom.com/mmedia/vectors/mzi.cf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eeports, D. (2000). Addressing physical intuition-a first day event.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Physics Teacher,38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318-31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68680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alibri"/>
              </a:rPr>
              <a:t>B2. Developing Skills of Investigation and Communication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2.1 use appropriate terminology related to dynamics, including, but not limited to: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nertial and non-inertial frames of reference, components, centripetal, period, frequency, static friction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kinetic frictio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[C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2.2 solve problems related to motion, including projectile and relative motion, by adding and subtracting two-dimensional vector quantities, using vector diagrams, vector components, and algebraic methods [PR, AI, C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5345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alibri"/>
              </a:rPr>
              <a:t>C1. Relating Science to Technology, Society, and the Environment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1.1 analyse a technological device that applies the principles of linear or circular motion (e.g., a slingshot, a rocket launcher, a race car, a trebuchet) [AI, C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1.2 assess the impact on society and the environment of technological devices that use linear or circular motion (e.g., projectile weapons, centrifuges, elevators) [AI, C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alibri"/>
              </a:rPr>
              <a:t>Lesson Sequence</a:t>
            </a:r>
            <a:br>
              <a:rPr sz="4400"/>
            </a:br>
            <a:r>
              <a:rPr b="1" lang="en-US" sz="4400" spc="-1" strike="noStrike">
                <a:solidFill>
                  <a:srgbClr val="ff3300"/>
                </a:solidFill>
                <a:latin typeface="Calibri"/>
              </a:rPr>
              <a:t>Day 1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304920" y="1905120"/>
          <a:ext cx="8540640" cy="4500360"/>
        </p:xfrm>
        <a:graphic>
          <a:graphicData uri="http://schemas.openxmlformats.org/drawingml/2006/table">
            <a:tbl>
              <a:tblPr/>
              <a:tblGrid>
                <a:gridCol w="1904760"/>
                <a:gridCol w="1981440"/>
                <a:gridCol w="1295280"/>
                <a:gridCol w="1295280"/>
                <a:gridCol w="2063880"/>
              </a:tblGrid>
              <a:tr h="787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ption of Activity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aching/Learning Strategie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ectations Address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rning Style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essmen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3040"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 1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Diagnostic la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Projectile mo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Vocabulary 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le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phic organiz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ing textbook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Group 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Independent work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lete Graph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rganiz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Demo Project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otion (to reinforce concept quiz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1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1.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nesthetic/Tact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guist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agnostic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bserve students as they complete graphic organizer and perform lab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cept qui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ass Activit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20" name="Picture 6" descr="ramp"/>
          <p:cNvPicPr/>
          <p:nvPr/>
        </p:nvPicPr>
        <p:blipFill>
          <a:blip r:embed="rId1"/>
          <a:stretch/>
        </p:blipFill>
        <p:spPr>
          <a:xfrm>
            <a:off x="380880" y="609480"/>
            <a:ext cx="3571920" cy="4267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projectile-motion"/>
          <p:cNvPicPr/>
          <p:nvPr/>
        </p:nvPicPr>
        <p:blipFill>
          <a:blip r:embed="rId2"/>
          <a:stretch/>
        </p:blipFill>
        <p:spPr>
          <a:xfrm>
            <a:off x="4038480" y="609480"/>
            <a:ext cx="3657600" cy="426744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8"/>
          <p:cNvSpPr/>
          <p:nvPr/>
        </p:nvSpPr>
        <p:spPr>
          <a:xfrm>
            <a:off x="55800" y="6472080"/>
            <a:ext cx="8488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http://media.ehs.uen.org/html/PhysicsQ2/Horizontal_Projectiles_03/ramp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609480" y="525780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at type of motion is the marble experiencing vertically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at type of motion is the marble experiencing horizontally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raphic Organizer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457200" y="1600200"/>
          <a:ext cx="8229600" cy="4597560"/>
        </p:xfrm>
        <a:graphic>
          <a:graphicData uri="http://schemas.openxmlformats.org/drawingml/2006/table">
            <a:tbl>
              <a:tblPr/>
              <a:tblGrid>
                <a:gridCol w="4038480"/>
                <a:gridCol w="419112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Key Ter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Calibri"/>
                          <a:ea typeface="Times New Roman"/>
                        </a:rPr>
                        <a:t>Definition/Expla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Calibri"/>
                          <a:ea typeface="Times New Roman"/>
                        </a:rPr>
                        <a:t>Horizontal Veloc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Calibri"/>
                          <a:ea typeface="Times New Roman"/>
                        </a:rPr>
                        <a:t>Vertical Veloc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Calibri"/>
                          <a:ea typeface="Times New Roman"/>
                        </a:rPr>
                        <a:t>Range/Max. Horizontal  R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Calibri"/>
                          <a:ea typeface="Times New Roman"/>
                        </a:rPr>
                        <a:t>Uniform Mo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Calibri"/>
                          <a:ea typeface="Times New Roman"/>
                        </a:rPr>
                        <a:t>Uniform Accelerated Mo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Calibri"/>
                          <a:ea typeface="Times New Roman"/>
                        </a:rPr>
                        <a:t>Time of Fli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Calibri"/>
                          <a:ea typeface="Times New Roman"/>
                        </a:rPr>
                        <a:t>Maximum Hei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Calibri"/>
                          <a:ea typeface="Times New Roman"/>
                        </a:rPr>
                        <a:t>Et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3T00:17:44Z</dcterms:created>
  <dc:creator> Nate</dc:creator>
  <dc:description/>
  <dc:language>en-US</dc:language>
  <cp:lastModifiedBy> Nate</cp:lastModifiedBy>
  <dcterms:modified xsi:type="dcterms:W3CDTF">2010-07-28T00:25:23Z</dcterms:modified>
  <cp:revision>224</cp:revision>
  <dc:subject/>
  <dc:title>Slide 1</dc:title>
</cp:coreProperties>
</file>