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23.gif" ContentType="image/gif"/>
  <Override PartName="/ppt/media/image9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6.gif" ContentType="image/gif"/>
  <Override PartName="/ppt/media/image13.wmf" ContentType="image/x-wmf"/>
  <Override PartName="/ppt/media/image25.gif" ContentType="image/gif"/>
  <Override PartName="/ppt/media/image8.wmf" ContentType="image/x-wmf"/>
  <Override PartName="/ppt/media/image5.gif" ContentType="image/gif"/>
  <Override PartName="/ppt/media/image12.wmf" ContentType="image/x-wmf"/>
  <Override PartName="/ppt/media/image2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media/image4.gif" ContentType="image/gif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CBA-64A3-4FAC-881F-2950CE11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E88-6CE0-48C1-8956-7790FBD4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DDC-1B74-409B-BBC9-73FC9DDB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57E-2D73-45DA-BC1F-0D654280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72D7-6C05-4D36-AB0C-A3A744C6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F33F-6FFA-4936-9C41-C1735298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C84D-D982-4F85-9216-7E1B5CBD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79F9-EB60-4E83-B698-98C267FC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4C12-EE0E-495B-8AF7-3A233A0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43DD-D52C-43C6-8EED-02DA45F9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71C0-E9FB-4C39-A2E8-EF59E9A8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110-B6C1-43F4-9C8D-D35C04AE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63AD-0C4F-459E-8C96-52C8675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F516-C172-4094-9D9B-DD9954F7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153D-3F08-4C32-B1EC-C7F68CEE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CEB6-CA51-4578-8A44-9F383579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24DE-CEEF-41DE-804E-876A6157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CF1C-E356-4487-8689-9BB4554C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7E7C-95BE-49E2-8C77-22BF343A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569F-513C-42ED-9E65-29BB3572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2986-7224-41B4-9720-70B8BF7D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38062-92C5-47C5-9D13-BEED33E2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51A-2C88-4852-92DC-47F80AE1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149B-BB36-49B4-82E5-D02C4921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6F8A-9E46-4A5E-8117-9CF87BF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F0B3-C5E5-4873-9789-AB94BCCD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95DD-27A9-4E4C-9EDE-00CFB1D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7E0C-CBBE-4CAD-9C65-40859EF9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E6FBC-A44C-40B1-9F7B-E6081397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D5E8-8553-40FD-AD46-5B566C1B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8BA1B-52A9-4BAB-8274-CC57CC4F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BDDD-5664-4D2B-A8DC-1CC52977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809D-1AFF-4E80-92A9-EC31A442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C3A-05B0-4279-822E-ED51C2CF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ADA9-078D-4A98-85FC-405804BF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E410-B785-43B0-B86E-EDDDE239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3FAB0-8115-4BDA-8829-5575F827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6877-29DA-4075-934D-4331622A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38BB-2854-48B4-AB51-1C37A16A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40838-0314-498F-8F4A-E89F409A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F6343-F20E-48CD-92C9-A1F7C824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0474-A27D-4D7A-A315-244DE636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8FE2E-B116-4E58-826D-C214C181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2F2-7CC5-4589-B87D-52D6EB37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0E2-D1D3-4348-B29E-DDEE8162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EF9-18DD-4DEB-92A5-E3820BA1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ADB-C86C-4802-B129-262F098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80F-B794-4A71-9E90-1BB0E31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4887-8D26-4665-8D29-28B7FF9D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9D31-0C70-4095-AFFB-7BD09C1233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727C-6217-4F64-925C-74ADB663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BCE2-5BD0-46EA-86F4-36AE1D0804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hyperlink" Target="http://www.physicsclassroom.com/mmedia/vectors/mzi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mmedia/vectors/mzng.cfm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hyperlink" Target="http://www.physicsclassroom.com/mmedia/vectors/mzg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hyperlink" Target="http://www.physicsclassroom.com/mmedia/vectors/mzs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hyperlink" Target="http://www.physicsclassroom.com/mmedia/vectors/mzf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lon-capa.org/~mmp/kap3/cd060.htm" TargetMode="External"/><Relationship Id="rId2" Type="http://schemas.openxmlformats.org/officeDocument/2006/relationships/hyperlink" Target="http://www.walter-fendt.de/ph14e/projectile.htm" TargetMode="External"/><Relationship Id="rId3" Type="http://schemas.openxmlformats.org/officeDocument/2006/relationships/hyperlink" Target="http://www.falstad.com/mathphysics.html" TargetMode="External"/><Relationship Id="rId4" Type="http://schemas.openxmlformats.org/officeDocument/2006/relationships/hyperlink" Target="http://www.falstad.com/mathphysics.html" TargetMode="External"/><Relationship Id="rId5" Type="http://schemas.openxmlformats.org/officeDocument/2006/relationships/hyperlink" Target="http://www.physicsclassroom.com/mmedia/vectors/mzi.cfm" TargetMode="External"/><Relationship Id="rId6" Type="http://schemas.openxmlformats.org/officeDocument/2006/relationships/hyperlink" Target="http://www.physicsclassroom.com/mmedia/vectors/mzi.cf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media.ehs.uen.org/html/PhysicsQ2/Horizontal_Projectiles_03/ramp.jpg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weekr3"/>
          <p:cNvPicPr/>
          <p:nvPr/>
        </p:nvPicPr>
        <p:blipFill>
          <a:blip r:embed="rId1"/>
          <a:stretch/>
        </p:blipFill>
        <p:spPr>
          <a:xfrm>
            <a:off x="1143000" y="804960"/>
            <a:ext cx="6934320" cy="5191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2803680" y="620388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05160" y="6248520"/>
            <a:ext cx="84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colorado.edu/physics/phys1110/phys1110_fa07/mainPage3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133720" y="2514600"/>
            <a:ext cx="49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r: Nate Mohanl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ul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: Sean Hend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523880" y="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alibri"/>
              </a:rPr>
              <a:t>Concept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What do the following situations have in common?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ruck is equipped with a flare launcher which is capable of launching a sphere vertically (relative to the truck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ief package drops from a low-flying airpla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-838080">
              <a:lnSpc>
                <a:spcPct val="100000"/>
              </a:lnSpc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Suppose a truck is equipped with a flare launcher which is capable of launching a sphere vertically (relative to the truck). If the truck is in motion and launches the flare and maintains a constant horizontal velocity after the launch, then where will the flare land (neglect air resistance)?</a:t>
            </a:r>
            <a:br>
              <a:rPr sz="28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a. in front of the truck 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b. behind the truck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c. in the truck</a:t>
            </a:r>
            <a:endParaRPr b="1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tb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304920" y="62802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143000" y="6324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tb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2. Suppose a rescue airplane drops a relief package while it is moving with a constant horizontal speed at an elevated height. Assuming that air resistance is negligible, where will the relief package land relative to the pl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a. below the plane and behi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b. directly below th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c. below the plane and ahead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pap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019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838080" y="65851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990720" y="649116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pap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ay 2 and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1828800"/>
          <a:ext cx="8007480" cy="4438800"/>
        </p:xfrm>
        <a:graphic>
          <a:graphicData uri="http://schemas.openxmlformats.org/drawingml/2006/table">
            <a:tbl>
              <a:tblPr/>
              <a:tblGrid>
                <a:gridCol w="2187720"/>
                <a:gridCol w="1164960"/>
                <a:gridCol w="1219320"/>
                <a:gridCol w="1600200"/>
                <a:gridCol w="183528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chin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ate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ec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 Sty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6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y 2 and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cuss how objects release from the same height and projected horizontally and with different masses hit the ground the same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abolic motion and angle of pro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aring Horizontal Range :Using formula to verify  maximum  possible range using different angles and a fixed initial velo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emo- u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wo 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fe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Ani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up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xt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s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d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sthetic/Tac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ecking for 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estioning of students based on their mathematical knowledg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lve for maximum range using fo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oncept qui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63440" y="1828800"/>
          <a:ext cx="8828280" cy="4799160"/>
        </p:xfrm>
        <a:graphic>
          <a:graphicData uri="http://schemas.openxmlformats.org/drawingml/2006/table">
            <a:tbl>
              <a:tblPr/>
              <a:tblGrid>
                <a:gridCol w="2656080"/>
                <a:gridCol w="1600200"/>
                <a:gridCol w="1066680"/>
                <a:gridCol w="1066680"/>
                <a:gridCol w="2438640"/>
              </a:tblGrid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chin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ate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ec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 Sty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y 4: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lem Sol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Analyzing the motion of objects projected horizont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Analyzing more complex projectile 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lass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Instru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vol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Problem Solving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Independent 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ompiling Physics Toolb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sth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s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d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rculate while students individually solve problems to observe students’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cept 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Parallel Questio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ig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iz,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0"/>
          <p:cNvSpPr/>
          <p:nvPr/>
        </p:nvSpPr>
        <p:spPr>
          <a:xfrm>
            <a:off x="228600" y="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Day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ept Circl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530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129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ify the strategy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ving one section empty, to be filled by stud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ing one non-example and asking students to find which item does not belong and to justify thei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98560" y="102240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: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7"/>
          <p:cNvSpPr/>
          <p:nvPr/>
        </p:nvSpPr>
        <p:spPr>
          <a:xfrm>
            <a:off x="2651040" y="-1206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s Tool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04920" y="380880"/>
          <a:ext cx="8534160" cy="6088320"/>
        </p:xfrm>
        <a:graphic>
          <a:graphicData uri="http://schemas.openxmlformats.org/drawingml/2006/table">
            <a:tbl>
              <a:tblPr/>
              <a:tblGrid>
                <a:gridCol w="3398760"/>
                <a:gridCol w="5135400"/>
              </a:tblGrid>
              <a:tr h="303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matics Equations for Projectile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izontal 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cal 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dratic Fo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rizontal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193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866880" cy="581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7" descr=""/>
          <p:cNvPicPr/>
          <p:nvPr/>
        </p:nvPicPr>
        <p:blipFill>
          <a:blip r:embed="rId2"/>
          <a:stretch/>
        </p:blipFill>
        <p:spPr>
          <a:xfrm>
            <a:off x="4114800" y="1752480"/>
            <a:ext cx="3000240" cy="210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99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212400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00" descr=""/>
          <p:cNvPicPr/>
          <p:nvPr/>
        </p:nvPicPr>
        <p:blipFill>
          <a:blip r:embed="rId4"/>
          <a:stretch/>
        </p:blipFill>
        <p:spPr>
          <a:xfrm>
            <a:off x="4114800" y="5105520"/>
            <a:ext cx="13240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fferentiating Physics Instr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allel Questions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1371600"/>
          <a:ext cx="8007120" cy="5084640"/>
        </p:xfrm>
        <a:graphic>
          <a:graphicData uri="http://schemas.openxmlformats.org/drawingml/2006/table">
            <a:tbl>
              <a:tblPr/>
              <a:tblGrid>
                <a:gridCol w="4003560"/>
                <a:gridCol w="4003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hild travels down a water slide, leaving it with a velocity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 m/s horizontally. The child then exper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ile motion, landing in a swimming p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 m below the sl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 For how long is the child airbor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) Determine the child’s velocity upon entering the w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helicopter, travelling horizontally, is 82 m above t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. The pilot prepares to release a relief pack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ded to land on the ground 96 m horizontally ahead.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ance is negligible. The pilot does not throw the packag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 lets it drop. What is the initial velocity of the pack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 to the groun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7" name="Picture 36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35268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2209680" cy="609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0" descr=""/>
          <p:cNvPicPr/>
          <p:nvPr/>
        </p:nvPicPr>
        <p:blipFill>
          <a:blip r:embed="rId3"/>
          <a:stretch/>
        </p:blipFill>
        <p:spPr>
          <a:xfrm>
            <a:off x="5867280" y="5257800"/>
            <a:ext cx="124776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990720" y="5791320"/>
            <a:ext cx="1600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 Placement/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Sequence/Teachin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ile Motion Misconceptions /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ies for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and Societal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udents develop personal “theories of motion” by generalising the ideas they acquire from observation of objects in everyday situations (Keeports, 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vier objects fall fast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tutorial9-4"/>
          <p:cNvPicPr/>
          <p:nvPr/>
        </p:nvPicPr>
        <p:blipFill>
          <a:blip r:embed="rId1"/>
          <a:stretch/>
        </p:blipFill>
        <p:spPr>
          <a:xfrm>
            <a:off x="1219320" y="2895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utorial9-4"/>
          <p:cNvPicPr/>
          <p:nvPr/>
        </p:nvPicPr>
        <p:blipFill>
          <a:blip r:embed="rId2"/>
          <a:stretch/>
        </p:blipFill>
        <p:spPr>
          <a:xfrm>
            <a:off x="4724280" y="3352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nimation are useful tools for visual lear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ere we see that heavier objects hit the ground at the same time as lighter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falling"/>
          <p:cNvPicPr/>
          <p:nvPr/>
        </p:nvPicPr>
        <p:blipFill>
          <a:blip r:embed="rId1"/>
          <a:stretch/>
        </p:blipFill>
        <p:spPr>
          <a:xfrm>
            <a:off x="5076720" y="1628640"/>
            <a:ext cx="3167280" cy="4608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362960" y="61405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brary.thinkquest.org/2779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sconception # 2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one object is dropped from a specific point and another is projected forward from the same point, then the projected object will take longer to reach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nsider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ll A falls freely from a specific height and at the same time ball B is thrown horizontally from the same he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a) How do we compare the acceleration of the two ba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b) Which ball will hit the ground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676520" y="6127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lson: Physics 12 p.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2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animation shows that both objects reach the ground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illustrates the concept in a different way for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Free Fall 1"/>
          <p:cNvPicPr/>
          <p:nvPr/>
        </p:nvPicPr>
        <p:blipFill>
          <a:blip r:embed="rId1"/>
          <a:stretch/>
        </p:blipFill>
        <p:spPr>
          <a:xfrm>
            <a:off x="4859280" y="1773360"/>
            <a:ext cx="3745080" cy="4464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1371600" y="6127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lson: Physics 12 p.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brary.thinkquest.org/2779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3 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arabolic Mo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owing the parabolic nature of projectiles leads the student to believe they are quite different from linear falling or horizontal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easy way to deal with this is to plot the motion of a freely falling object and a horizontally moving object on the same grap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the intersection points at the same time, are connected, the result is a parab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255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2400" spc="-1" strike="noStrike">
                <a:solidFill>
                  <a:srgbClr val="009900"/>
                </a:solidFill>
                <a:latin typeface="Calibri"/>
              </a:rPr>
              <a:t>green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 illustrates uniform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2400" spc="-1" strike="noStrike">
                <a:solidFill>
                  <a:srgbClr val="ff3300"/>
                </a:solidFill>
                <a:latin typeface="Calibri"/>
              </a:rPr>
              <a:t>red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 illustrates free fall and uniform acceler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combination of these two motions at equal time intervals yields the parabolic path shown by the </a:t>
            </a:r>
            <a:r>
              <a:rPr b="0" lang="en-CA" sz="2400" spc="-1" strike="noStrike">
                <a:solidFill>
                  <a:srgbClr val="0066ff"/>
                </a:solidFill>
                <a:latin typeface="Calibri"/>
              </a:rPr>
              <a:t>blue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Horizontal and vertical motion are independent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bds"/>
          <p:cNvPicPr/>
          <p:nvPr/>
        </p:nvPicPr>
        <p:blipFill>
          <a:blip r:embed="rId1"/>
          <a:stretch/>
        </p:blipFill>
        <p:spPr>
          <a:xfrm>
            <a:off x="4572000" y="1341360"/>
            <a:ext cx="4572000" cy="4967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76360" y="63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bds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4 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arabolic Mo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 the top (peak) of its trajectory, the velocity of a projectile is always momentarily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acceleration of the object is also zero, at the 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nsider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basketball ball is thrown at an angle from one person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velocity of the object at the peak of the f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acceleration of the object at the peak of the f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638680" y="4313160"/>
            <a:ext cx="295128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urriculum Placement: BIG IDEA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Grade 2 : Stru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vestigate and describe different kinds of movement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e.g., by observing how toys an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ther everyday objects m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dentify ways in which the position of an object can be changed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e.g., by pushing, b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ulling, by dropp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3300"/>
                </a:solidFill>
                <a:latin typeface="Calibri"/>
              </a:rPr>
              <a:t>Grade 11 Physics: Kin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otion involves a change in the position of an object over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otion can be described using mathematical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any technologies that apply concepts related to kinematics have societal and environmental im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Grade 12 Physics: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ces affect motion in predictable and quantifiable w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ces acting on an object will determine the motion of that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ny technologies that utilize the principles of dynamics have societal and environmental implications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s # 4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Have students look at the horizontal and vertical velocity vectors throughout parabolic f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monstrate that the velocity is not zero as there must be some horizontal motion still (it doesn’t stop in midair)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14400" y="63565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057400" y="3246480"/>
            <a:ext cx="504036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# 4 Cont’d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f you throw an object in the air, it stops briefly (vertical velocity is zero) but acceleration is not zero (gravity doesn’t sto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hat is its ro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o change the direction of the velocity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U1L2c3"/>
          <p:cNvPicPr/>
          <p:nvPr/>
        </p:nvPicPr>
        <p:blipFill>
          <a:blip r:embed="rId1"/>
          <a:stretch/>
        </p:blipFill>
        <p:spPr>
          <a:xfrm>
            <a:off x="1523880" y="2895480"/>
            <a:ext cx="5486400" cy="35816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1259280" y="649116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Class/vectors/U3L2c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sconception # 5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believe that the greater the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projection, the greater the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travelled by a project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Activity Nelson Physics 1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ng Horizontal Range p.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formula to ve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332748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Anim'n of 3 Projectiles at 30, 45, and 60-degree Launch Angle"/>
          <p:cNvPicPr/>
          <p:nvPr/>
        </p:nvPicPr>
        <p:blipFill>
          <a:blip r:embed="rId1"/>
          <a:stretch/>
        </p:blipFill>
        <p:spPr>
          <a:xfrm>
            <a:off x="3809880" y="380880"/>
            <a:ext cx="4775400" cy="5561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69960" y="1784520"/>
            <a:ext cx="283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spot the Mistake in this ani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egies for solving problem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d in the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2971800" y="45720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819520" y="6084720"/>
            <a:ext cx="57322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cGraw-Hill Ryerson Physics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plications and Societal Implication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le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n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cus/fir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food in disast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sessment and Evalua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key and Banana Proble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 Black"/>
              </a:rPr>
              <a:t>Monkey and Banana</a:t>
            </a:r>
            <a:br>
              <a:rPr sz="4400"/>
            </a:br>
            <a:r>
              <a:rPr b="1" lang="en-US" sz="1600" spc="-1" strike="noStrike" u="sng">
                <a:solidFill>
                  <a:srgbClr val="0066ff"/>
                </a:solidFill>
                <a:uFillTx/>
                <a:latin typeface="Arial Black"/>
                <a:hlinkClick r:id="rId1"/>
              </a:rPr>
              <a:t>Throw at the Monkey in a Gravity Free Environment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7" name="Picture 4" descr="Monkey 1"/>
          <p:cNvPicPr/>
          <p:nvPr/>
        </p:nvPicPr>
        <p:blipFill>
          <a:blip r:embed="rId2"/>
          <a:stretch/>
        </p:blipFill>
        <p:spPr>
          <a:xfrm>
            <a:off x="380880" y="1447920"/>
            <a:ext cx="8458200" cy="46479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5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Monkey 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2270160" y="264960"/>
            <a:ext cx="504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4600" y="3042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bove the Monkey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3300"/>
                </a:solidFill>
                <a:latin typeface="Calibri"/>
              </a:rPr>
              <a:t>A1. Scientific Investigation Skill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5 conduct inquiries, controlling relevant variables, adapting or extending procedures as required, and using appropriate materials and equipment safely, accurately, and effectively, to collect observa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10 draw conclusions based on inquiry results and research findings, and justify their conclusions with reference to scientific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12 use appropriate numeric (e.g., SI and imperial units), symbolic, and graphic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epresentation (e.g., vector diagrams, free-body diagrams, vector components, and Algebraic equ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Monkey 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2057400" y="3049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828800" y="304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t the Monkey at a Fast Speed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Monkey 3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3032280" y="11268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8088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t the Monkey at a Slow Speed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http://www.lon-capa.org/~mmp/kap3/cd060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http://www.walter-fendt.de/ph14e/projectil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4"/>
              </a:rPr>
              <a:t>www.falstad.com/mathphysi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6"/>
              </a:rPr>
              <a:t>www.physicsclassroom.com/mmedia/vectors/mzi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orts, D. (2000). Addressing physical intuition-a first day event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Physics Teacher,3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318-3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B2. Developing Skills of Investigation and Communicati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.1 use appropriate terminology related to dynamics, including, but not limited to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ertial and non-inertial frames of reference, components, centripetal, period, frequency, static fric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inetic fri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.2 solve problems related to motion, including projectile and relative motion, by adding and subtracting two-dimensional vector quantities, using vector diagrams, vector components, and algebraic methods [PR, AI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C1. Relating Science to Technology, Society, and the Environm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1.1 analyse a technological device that applies the principles of linear or circular motion (e.g., a slingshot, a rocket launcher, a race car, a trebuchet) [AI, 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1.2 assess the impact on society and the environment of technological devices that use linear or circular motion (e.g., projectile weapons, centrifuges, elevators) [AI, 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ay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905120"/>
          <a:ext cx="8540640" cy="4500360"/>
        </p:xfrm>
        <a:graphic>
          <a:graphicData uri="http://schemas.openxmlformats.org/drawingml/2006/table">
            <a:tbl>
              <a:tblPr/>
              <a:tblGrid>
                <a:gridCol w="1904760"/>
                <a:gridCol w="1981440"/>
                <a:gridCol w="1295280"/>
                <a:gridCol w="1295280"/>
                <a:gridCol w="2063880"/>
              </a:tblGrid>
              <a:tr h="78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 of Activ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ing/Learning Strategi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ations Address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Styl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Diagnostic 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Projectile 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Vocabulary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ic organ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ing textbo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Group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Independent wor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te 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gan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emo Proje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tion (to reinforce concept qui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sthetic/Tac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gu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agno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serve students as they complete graphic organizer and perform la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cept qu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ass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6" descr="ramp"/>
          <p:cNvPicPr/>
          <p:nvPr/>
        </p:nvPicPr>
        <p:blipFill>
          <a:blip r:embed="rId1"/>
          <a:stretch/>
        </p:blipFill>
        <p:spPr>
          <a:xfrm>
            <a:off x="380880" y="609480"/>
            <a:ext cx="3571920" cy="426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projectile-motion"/>
          <p:cNvPicPr/>
          <p:nvPr/>
        </p:nvPicPr>
        <p:blipFill>
          <a:blip r:embed="rId2"/>
          <a:stretch/>
        </p:blipFill>
        <p:spPr>
          <a:xfrm>
            <a:off x="4038480" y="609480"/>
            <a:ext cx="3657600" cy="42674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55800" y="6472080"/>
            <a:ext cx="8488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media.ehs.uen.org/html/PhysicsQ2/Horizontal_Projectiles_03/ramp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09480" y="52578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type of motion is the marble experiencing verticall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type of motion is the marble experiencing horizontall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phic Organizer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229600" cy="45975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Key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Definition/Expla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Horizontal 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Vertical 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Range/Max. Horizontal  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Uniform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Uniform Accelerated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Time of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Maximum 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00:17:44Z</dcterms:created>
  <dc:creator> Nate</dc:creator>
  <dc:description/>
  <dc:language>en-US</dc:language>
  <cp:lastModifiedBy> Nate</cp:lastModifiedBy>
  <dcterms:modified xsi:type="dcterms:W3CDTF">2010-07-28T00:25:23Z</dcterms:modified>
  <cp:revision>224</cp:revision>
  <dc:subject/>
  <dc:title>Slide 1</dc:title>
</cp:coreProperties>
</file>