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23.gif" ContentType="image/gif"/>
  <Override PartName="/ppt/media/image9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6.gif" ContentType="image/gif"/>
  <Override PartName="/ppt/media/image13.wmf" ContentType="image/x-wmf"/>
  <Override PartName="/ppt/media/image25.gif" ContentType="image/gif"/>
  <Override PartName="/ppt/media/image8.wmf" ContentType="image/x-wmf"/>
  <Override PartName="/ppt/media/image5.gif" ContentType="image/gif"/>
  <Override PartName="/ppt/media/image12.wmf" ContentType="image/x-wmf"/>
  <Override PartName="/ppt/media/image24.gif" ContentType="image/gif"/>
  <Override PartName="/ppt/media/image19.jpeg" ContentType="image/jpeg"/>
  <Override PartName="/ppt/media/image18.gif" ContentType="image/gif"/>
  <Override PartName="/ppt/media/image17.gif" ContentType="image/gif"/>
  <Override PartName="/ppt/media/image2.jpeg" ContentType="image/jpeg"/>
  <Override PartName="/ppt/media/image21.png" ContentType="image/png"/>
  <Override PartName="/ppt/media/image16.gif" ContentType="image/gif"/>
  <Override PartName="/ppt/media/image15.jpeg" ContentType="image/jpeg"/>
  <Override PartName="/ppt/media/image1.jpeg" ContentType="image/jpeg"/>
  <Override PartName="/ppt/media/image27.gif" ContentType="image/gif"/>
  <Override PartName="/ppt/media/image22.jpeg" ContentType="image/jpeg"/>
  <Override PartName="/ppt/media/image4.gif" ContentType="image/gif"/>
  <Override PartName="/ppt/media/image20.jpeg" ContentType="image/jpe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339D-1E31-46E7-B430-40AEEC47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E0C-2CEE-451D-B9A8-469C92C5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549-498C-4168-B9F1-D5690512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2923-99D6-4BE7-AB82-EBB6D6E7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4739-DE60-444E-A619-60DC6772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B18A-7754-4E02-9EA7-1FAF2486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E70D-1400-4BD6-A635-75D5E65C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E5D0-42C7-4855-B257-3F573B39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09F8-CA9A-4B0C-B4C3-DC8ABC44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099D-DA25-415B-9697-004DD39F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A4A3-BDAA-4AC0-8839-14D78A2C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509B-F036-4AC0-A59A-CFDB17B6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3226-A673-4B84-A804-FC16643B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AE65-0F86-4E93-8F63-B61CDC7E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1409-40EC-47F7-AFD2-FEDD4E4F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2C91-38E2-499C-A64D-8A905053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6F7F-8EAD-4886-81A1-96206284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45906-BF29-4724-83D5-196AD7F3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44848-61E8-4A5F-92DD-4EA05852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D0DBB-F0D5-4EE3-B6B4-1B5C4CFC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24C3B-2503-4EC2-B260-1DE1B336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4B1CE-DF0F-400F-8E5A-17B092B5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793-7DF6-4799-96FB-B36AD1F5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95900-0015-4FA6-8CBE-6A155C16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0CDB7-97F0-4D26-A299-0C757C6B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4FA26-2749-4E11-8FA4-12FF0AB3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D2498-3E2B-4429-98DE-DB19E55B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EF61E-9617-49E7-8AB8-C68E4D6D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93DA6-43DB-4DF5-B037-1382AC0A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DC3EF-BD8B-41FA-8D58-2CC78810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E3C27-8437-41BA-B739-AA36D578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A2886-7F1F-4E75-AB50-9795E647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27949-8C08-40F8-B5B8-F3604CA6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7F4-0830-4E5F-A6C6-742668DA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46F68-98FD-4E74-A8BB-AD4B822C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98B19-796F-4786-9343-F629A29E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DCE47-884A-468E-B3FA-C9F97938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661B8-B036-4DCC-A057-06C9953D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45494-0C5B-453A-88F9-AC5D0C9B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08D9F-F831-46B7-B856-3A5A9E7D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20D52-128B-4213-9F8A-D4AD31DD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C23A0-170D-45B8-B43D-2892B6E0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0FFBB-50E8-4A6F-A360-6C405DB7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217-F7DD-4DD5-88B0-8C911316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05C-2623-4F3C-A8BE-42BA21B9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903-C240-42B2-BAE5-624B9EA2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D62-FBC8-4D78-9208-BC4481AB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37E-FA96-461F-B760-083E1E76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5DD2-D913-4DD7-9D20-3EE44F443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4D36-5CF7-414C-AC75-96614E85AA9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8889-F7ED-4F94-963F-CBA7A89FC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2FDC-4691-4407-AC9E-0AD4947764F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hyperlink" Target="http://www.physicsclassroom.com/mmedia/vectors/mzi.cfm" TargetMode="External"/><Relationship Id="rId3" Type="http://schemas.openxmlformats.org/officeDocument/2006/relationships/hyperlink" Target="http://www.physicsclassroom.com/mmedia/vectors/mzi.cfm" TargetMode="Externa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physicsclassroom.com/mmedia/vectors/mzng.cfm" TargetMode="External"/><Relationship Id="rId2" Type="http://schemas.openxmlformats.org/officeDocument/2006/relationships/image" Target="../media/image24.gif"/><Relationship Id="rId3" Type="http://schemas.openxmlformats.org/officeDocument/2006/relationships/hyperlink" Target="http://www.physicsclassroom.com/mmedia/vectors/mzi.cfm" TargetMode="External"/><Relationship Id="rId4" Type="http://schemas.openxmlformats.org/officeDocument/2006/relationships/hyperlink" Target="http://www.physicsclassroom.com/mmedia/vectors/mzi.cfm" TargetMode="Externa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hyperlink" Target="http://www.physicsclassroom.com/mmedia/vectors/mzg.cfm" TargetMode="External"/><Relationship Id="rId3" Type="http://schemas.openxmlformats.org/officeDocument/2006/relationships/hyperlink" Target="http://www.physicsclassroom.com/mmedia/vectors/mzi.cfm" TargetMode="External"/><Relationship Id="rId4" Type="http://schemas.openxmlformats.org/officeDocument/2006/relationships/hyperlink" Target="http://www.physicsclassroom.com/mmedia/vectors/mzi.cf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hyperlink" Target="http://www.physicsclassroom.com/mmedia/vectors/mzs.cfm" TargetMode="External"/><Relationship Id="rId3" Type="http://schemas.openxmlformats.org/officeDocument/2006/relationships/hyperlink" Target="http://www.physicsclassroom.com/mmedia/vectors/mzi.cfm" TargetMode="External"/><Relationship Id="rId4" Type="http://schemas.openxmlformats.org/officeDocument/2006/relationships/hyperlink" Target="http://www.physicsclassroom.com/mmedia/vectors/mzi.cfm" TargetMode="External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hyperlink" Target="http://www.physicsclassroom.com/mmedia/vectors/mzf.cfm" TargetMode="External"/><Relationship Id="rId3" Type="http://schemas.openxmlformats.org/officeDocument/2006/relationships/hyperlink" Target="http://www.physicsclassroom.com/mmedia/vectors/mzi.cfm" TargetMode="External"/><Relationship Id="rId4" Type="http://schemas.openxmlformats.org/officeDocument/2006/relationships/hyperlink" Target="http://www.physicsclassroom.com/mmedia/vectors/mzi.cfm" TargetMode="Externa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lon-capa.org/~mmp/kap3/cd060.htm" TargetMode="External"/><Relationship Id="rId2" Type="http://schemas.openxmlformats.org/officeDocument/2006/relationships/hyperlink" Target="http://www.walter-fendt.de/ph14e/projectile.htm" TargetMode="External"/><Relationship Id="rId3" Type="http://schemas.openxmlformats.org/officeDocument/2006/relationships/hyperlink" Target="http://www.falstad.com/mathphysics.html" TargetMode="External"/><Relationship Id="rId4" Type="http://schemas.openxmlformats.org/officeDocument/2006/relationships/hyperlink" Target="http://www.falstad.com/mathphysics.html" TargetMode="External"/><Relationship Id="rId5" Type="http://schemas.openxmlformats.org/officeDocument/2006/relationships/hyperlink" Target="http://www.physicsclassroom.com/mmedia/vectors/mzi.cfm" TargetMode="External"/><Relationship Id="rId6" Type="http://schemas.openxmlformats.org/officeDocument/2006/relationships/hyperlink" Target="http://www.physicsclassroom.com/mmedia/vectors/mzi.cfm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media.ehs.uen.org/html/PhysicsQ2/Horizontal_Projectiles_03/ramp.jpg" TargetMode="External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weekr3"/>
          <p:cNvPicPr/>
          <p:nvPr/>
        </p:nvPicPr>
        <p:blipFill>
          <a:blip r:embed="rId1"/>
          <a:stretch/>
        </p:blipFill>
        <p:spPr>
          <a:xfrm>
            <a:off x="1143000" y="804960"/>
            <a:ext cx="6934320" cy="51912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2803680" y="6203880"/>
            <a:ext cx="550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05160" y="6248520"/>
            <a:ext cx="84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colorado.edu/physics/phys1110/phys1110_fa07/mainPage3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133720" y="2514600"/>
            <a:ext cx="4952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ile 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er: Nate Mohanl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uly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tor: Sean Hend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523880" y="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alibri"/>
              </a:rPr>
              <a:t>Concept Pres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What do the following situations have in common?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truck is equipped with a flare launcher which is capable of launching a sphere vertically (relative to the truck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relief package drops from a low-flying airpla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-838080">
              <a:lnSpc>
                <a:spcPct val="100000"/>
              </a:lnSpc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Suppose a truck is equipped with a flare launcher which is capable of launching a sphere vertically (relative to the truck). If the truck is in motion and launches the flare and maintains a constant horizontal velocity after the launch, then where will the flare land (neglect air resistance)?</a:t>
            </a:r>
            <a:br>
              <a:rPr sz="2800"/>
            </a:b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a. in front of the truck </a:t>
            </a: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	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b. behind the truck</a:t>
            </a: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	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c. in the truck</a:t>
            </a:r>
            <a:endParaRPr b="1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tb"/>
          <p:cNvPicPr/>
          <p:nvPr/>
        </p:nvPicPr>
        <p:blipFill>
          <a:blip r:embed="rId1"/>
          <a:stretch/>
        </p:blipFill>
        <p:spPr>
          <a:xfrm>
            <a:off x="457200" y="304920"/>
            <a:ext cx="8686800" cy="59436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304920" y="628020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1143000" y="6324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physicsclassroom.com/mmedia/vectors/tb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2. Suppose a rescue airplane drops a relief package while it is moving with a constant horizontal speed at an elevated height. Assuming that air resistance is negligible, where will the relief package land relative to the pla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a. below the plane and behind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b. directly below the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c. below the plane and ahead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pap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0195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8"/>
          <p:cNvSpPr/>
          <p:nvPr/>
        </p:nvSpPr>
        <p:spPr>
          <a:xfrm>
            <a:off x="838080" y="6585120"/>
            <a:ext cx="769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990720" y="649116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physicsclassroom.com/mmedia/vectors/pap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Lesson sequence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Day 2 and 3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1828800"/>
          <a:ext cx="8007480" cy="4438800"/>
        </p:xfrm>
        <a:graphic>
          <a:graphicData uri="http://schemas.openxmlformats.org/drawingml/2006/table">
            <a:tbl>
              <a:tblPr/>
              <a:tblGrid>
                <a:gridCol w="2187720"/>
                <a:gridCol w="1164960"/>
                <a:gridCol w="1219320"/>
                <a:gridCol w="1600200"/>
                <a:gridCol w="1835280"/>
              </a:tblGrid>
              <a:tr h="731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on of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aching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rateg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ect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dres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rning Sty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sess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6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y 2 and 3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cuss how objects release from the same height and projected horizontally and with different masses hit the ground the same tim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rabolic motion and angle of proj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aring Horizontal Range :Using formula to verify  maximum  possible range using different angles and a fixed initial velo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Demo- u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wo o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ffe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s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Ani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oup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xt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s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ud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inesthetic/Tact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er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hecking for understa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estioning of students based on their mathematical knowledg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lve for maximum range using form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concept qui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63440" y="1828800"/>
          <a:ext cx="8828280" cy="4799160"/>
        </p:xfrm>
        <a:graphic>
          <a:graphicData uri="http://schemas.openxmlformats.org/drawingml/2006/table">
            <a:tbl>
              <a:tblPr/>
              <a:tblGrid>
                <a:gridCol w="2656080"/>
                <a:gridCol w="1600200"/>
                <a:gridCol w="1066680"/>
                <a:gridCol w="1066680"/>
                <a:gridCol w="2438640"/>
              </a:tblGrid>
              <a:tr h="82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on of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aching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rateg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ec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rning Sty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sess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y 4: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blem Solv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Analyzing the motion of objects projected horizont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Analyzing more complex projectile mo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Class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rect Instru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 invol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Problem Solving Strate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Independent wor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Compiling Physics Toolb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inesthe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s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ud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m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rculate while students individually solve problems to observe students’ readi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cept Cir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Parallel Questio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sign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mm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iz, 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50"/>
          <p:cNvSpPr/>
          <p:nvPr/>
        </p:nvSpPr>
        <p:spPr>
          <a:xfrm>
            <a:off x="228600" y="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Lesson sequence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Day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cept Circl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45309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12920" y="1904760"/>
            <a:ext cx="3932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ify the strategy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ving one section empty, to be filled by stud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ing one non-example and asking students to find which item does not belong and to justify thei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898560" y="1022400"/>
            <a:ext cx="25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pt: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7"/>
          <p:cNvSpPr/>
          <p:nvPr/>
        </p:nvSpPr>
        <p:spPr>
          <a:xfrm>
            <a:off x="2651040" y="-12060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s Tool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1760400" y="1757520"/>
            <a:ext cx="338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1760400" y="1757520"/>
            <a:ext cx="338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1760400" y="1757520"/>
            <a:ext cx="338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21"/>
          <p:cNvSpPr/>
          <p:nvPr/>
        </p:nvSpPr>
        <p:spPr>
          <a:xfrm>
            <a:off x="1760400" y="1757520"/>
            <a:ext cx="338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04920" y="380880"/>
          <a:ext cx="8534160" cy="6088320"/>
        </p:xfrm>
        <a:graphic>
          <a:graphicData uri="http://schemas.openxmlformats.org/drawingml/2006/table">
            <a:tbl>
              <a:tblPr/>
              <a:tblGrid>
                <a:gridCol w="3398760"/>
                <a:gridCol w="5135400"/>
              </a:tblGrid>
              <a:tr h="3034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inematics Equations for Projectile Mo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mu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izontal (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tical (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Mo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5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adratic Formu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5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rizontal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1" name="Picture 193" descr=""/>
          <p:cNvPicPr/>
          <p:nvPr/>
        </p:nvPicPr>
        <p:blipFill>
          <a:blip r:embed="rId1"/>
          <a:stretch/>
        </p:blipFill>
        <p:spPr>
          <a:xfrm>
            <a:off x="4114800" y="1066680"/>
            <a:ext cx="866880" cy="5810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7" descr=""/>
          <p:cNvPicPr/>
          <p:nvPr/>
        </p:nvPicPr>
        <p:blipFill>
          <a:blip r:embed="rId2"/>
          <a:stretch/>
        </p:blipFill>
        <p:spPr>
          <a:xfrm>
            <a:off x="4114800" y="1752480"/>
            <a:ext cx="3000240" cy="2105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99" descr=""/>
          <p:cNvPicPr/>
          <p:nvPr/>
        </p:nvPicPr>
        <p:blipFill>
          <a:blip r:embed="rId3"/>
          <a:stretch/>
        </p:blipFill>
        <p:spPr>
          <a:xfrm>
            <a:off x="3962520" y="3962520"/>
            <a:ext cx="2124000" cy="609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00" descr=""/>
          <p:cNvPicPr/>
          <p:nvPr/>
        </p:nvPicPr>
        <p:blipFill>
          <a:blip r:embed="rId4"/>
          <a:stretch/>
        </p:blipFill>
        <p:spPr>
          <a:xfrm>
            <a:off x="4114800" y="5105520"/>
            <a:ext cx="1324080" cy="48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fferentiating Physics Instru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allel Questions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62120" y="1371600"/>
          <a:ext cx="8007120" cy="5084640"/>
        </p:xfrm>
        <a:graphic>
          <a:graphicData uri="http://schemas.openxmlformats.org/drawingml/2006/table">
            <a:tbl>
              <a:tblPr/>
              <a:tblGrid>
                <a:gridCol w="4003560"/>
                <a:gridCol w="4003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child travels down a water slide, leaving it with a velocity 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 m/s horizontally. The child then exper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ile motion, landing in a swimming p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 m below the slid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) For how long is the child airborn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) Determine the child’s velocity upon entering the wa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helicopter, travelling horizontally, is 82 m above t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. The pilot prepares to release a relief pack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nded to land on the ground 96 m horizontally ahead. A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stance is negligible. The pilot does not throw the package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 lets it drop. What is the initial velocity of the pack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ve to the ground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90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7" name="Picture 36" descr=""/>
          <p:cNvPicPr/>
          <p:nvPr/>
        </p:nvPicPr>
        <p:blipFill>
          <a:blip r:embed="rId1"/>
          <a:stretch/>
        </p:blipFill>
        <p:spPr>
          <a:xfrm>
            <a:off x="2971800" y="3276720"/>
            <a:ext cx="3352680" cy="1828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9" descr=""/>
          <p:cNvPicPr/>
          <p:nvPr/>
        </p:nvPicPr>
        <p:blipFill>
          <a:blip r:embed="rId2"/>
          <a:stretch/>
        </p:blipFill>
        <p:spPr>
          <a:xfrm>
            <a:off x="914400" y="5181480"/>
            <a:ext cx="2209680" cy="609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0" descr=""/>
          <p:cNvPicPr/>
          <p:nvPr/>
        </p:nvPicPr>
        <p:blipFill>
          <a:blip r:embed="rId3"/>
          <a:stretch/>
        </p:blipFill>
        <p:spPr>
          <a:xfrm>
            <a:off x="5867280" y="5257800"/>
            <a:ext cx="1247760" cy="685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990720" y="5791320"/>
            <a:ext cx="1600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Overview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iculum Placement/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Sequence/Teachin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ile Motion Misconceptions /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ies for solv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s and Societal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ment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Misconception # 1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tudents develop personal “theories of motion” by generalising the ideas they acquire from observation of objects in everyday situations (Keeports, 2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eavier objects fall fast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tutorial9-4"/>
          <p:cNvPicPr/>
          <p:nvPr/>
        </p:nvPicPr>
        <p:blipFill>
          <a:blip r:embed="rId1"/>
          <a:stretch/>
        </p:blipFill>
        <p:spPr>
          <a:xfrm>
            <a:off x="1219320" y="2895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tutorial9-4"/>
          <p:cNvPicPr/>
          <p:nvPr/>
        </p:nvPicPr>
        <p:blipFill>
          <a:blip r:embed="rId2"/>
          <a:stretch/>
        </p:blipFill>
        <p:spPr>
          <a:xfrm>
            <a:off x="4724280" y="33526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Addressing Misconception # 1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nimation are useful tools for visual lear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ere we see that heavier objects hit the ground at the same time as lighter 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falling"/>
          <p:cNvPicPr/>
          <p:nvPr/>
        </p:nvPicPr>
        <p:blipFill>
          <a:blip r:embed="rId1"/>
          <a:stretch/>
        </p:blipFill>
        <p:spPr>
          <a:xfrm>
            <a:off x="5076720" y="1628640"/>
            <a:ext cx="3167280" cy="46087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7"/>
          <p:cNvSpPr/>
          <p:nvPr/>
        </p:nvSpPr>
        <p:spPr>
          <a:xfrm>
            <a:off x="1362960" y="61405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library.thinkquest.org/2779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sconception # 2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one object is dropped from a specific point and another is projected forward from the same point, then the projected object will take longer to reach the 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onsider…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all A falls freely from a specific height and at the same time ball B is thrown horizontally from the same he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(a) How do we compare the acceleration of the two ba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(b) Which ball will hit the ground first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676520" y="61279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lson: Physics 12 p.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Addressing Misconception # 2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34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his animation shows that both objects reach the ground at the sam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his illustrates the concept in a different way for Visua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Free Fall 1"/>
          <p:cNvPicPr/>
          <p:nvPr/>
        </p:nvPicPr>
        <p:blipFill>
          <a:blip r:embed="rId1"/>
          <a:stretch/>
        </p:blipFill>
        <p:spPr>
          <a:xfrm>
            <a:off x="4859280" y="1773360"/>
            <a:ext cx="3745080" cy="4464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>
            <a:off x="1371600" y="6127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lson: Physics 12 p.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library.thinkquest.org/2779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Misconception # 3 </a:t>
            </a:r>
            <a:br>
              <a:rPr sz="4400"/>
            </a:b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Parabolic Motio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howing the parabolic nature of projectiles leads the student to believe they are quite different from linear falling or horizontal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Addressing Misconception # 3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 easy way to deal with this is to plot the motion of a freely falling object and a horizontally moving object on the same grap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n the intersection points at the same time, are connected, the result is a parabo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Addressing Misconception # 3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2559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CA" sz="2400" spc="-1" strike="noStrike">
                <a:solidFill>
                  <a:srgbClr val="009900"/>
                </a:solidFill>
                <a:latin typeface="Calibri"/>
              </a:rPr>
              <a:t>green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ball illustrates uniform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CA" sz="2400" spc="-1" strike="noStrike">
                <a:solidFill>
                  <a:srgbClr val="ff3300"/>
                </a:solidFill>
                <a:latin typeface="Calibri"/>
              </a:rPr>
              <a:t>red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ball illustrates free fall and uniform accelerate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e combination of these two motions at equal time intervals yields the parabolic path shown by the </a:t>
            </a:r>
            <a:r>
              <a:rPr b="0" lang="en-CA" sz="2400" spc="-1" strike="noStrike">
                <a:solidFill>
                  <a:srgbClr val="0066ff"/>
                </a:solidFill>
                <a:latin typeface="Calibri"/>
              </a:rPr>
              <a:t>blue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ba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Horizontal and vertical motion are independent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bds"/>
          <p:cNvPicPr/>
          <p:nvPr/>
        </p:nvPicPr>
        <p:blipFill>
          <a:blip r:embed="rId1"/>
          <a:stretch/>
        </p:blipFill>
        <p:spPr>
          <a:xfrm>
            <a:off x="4572000" y="1341360"/>
            <a:ext cx="4572000" cy="49672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1476360" y="6308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physicsclassroom.com/mmedia/vectors/bds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Misconception # 4 </a:t>
            </a:r>
            <a:br>
              <a:rPr sz="4400"/>
            </a:b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Parabolic Motio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t the top (peak) of its trajectory, the velocity of a projectile is always momentarily ze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acceleration of the object is also zero, at the p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onsider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basketball ball is thrown at an angle from one person to an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is the velocity of the object at the peak of the fligh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is the acceleration of the object at the peak of the fl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638680" y="4313160"/>
            <a:ext cx="2951280" cy="25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Curriculum Placement: BIG IDEAS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alibri"/>
              </a:rPr>
              <a:t>Grade 2 : Structu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vestigate and describe different kinds of movement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(e.g., by observing how toys and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other everyday objects mo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dentify ways in which the position of an object can be changed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(e.g., by pushing, by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pulling, by dropp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3300"/>
                </a:solidFill>
                <a:latin typeface="Calibri"/>
              </a:rPr>
              <a:t>Grade 11 Physics: Kinema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</a:rPr>
              <a:t>Motion involves a change in the position of an object over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</a:rPr>
              <a:t>Motion can be described using mathematical relationshi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</a:rPr>
              <a:t>Many technologies that apply concepts related to kinematics have societal and environmental implic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alibri"/>
              </a:rPr>
              <a:t>Grade 12 Physics: 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orces affect motion in predictable and quantifiable way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orces acting on an object will determine the motion of that o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ny technologies that utilize the principles of dynamics have societal and environmental implications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Addressing Misconceptions # 4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Have students look at the horizontal and vertical velocity vectors throughout parabolic fl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emonstrate that the velocity is not zero as there must be some horizontal motion still (it doesn’t stop in midair).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914400" y="635652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057400" y="3246480"/>
            <a:ext cx="504036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# 4 Cont’d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If you throw an object in the air, it stops briefly (vertical velocity is zero) but acceleration is not zero (gravity doesn’t sto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What is its ro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o change the direction of the velocity v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U1L2c3"/>
          <p:cNvPicPr/>
          <p:nvPr/>
        </p:nvPicPr>
        <p:blipFill>
          <a:blip r:embed="rId1"/>
          <a:stretch/>
        </p:blipFill>
        <p:spPr>
          <a:xfrm>
            <a:off x="1523880" y="2895480"/>
            <a:ext cx="5486400" cy="35816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6"/>
          <p:cNvSpPr/>
          <p:nvPr/>
        </p:nvSpPr>
        <p:spPr>
          <a:xfrm>
            <a:off x="1259280" y="6491160"/>
            <a:ext cx="65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physicsclassroom.com/Class/vectors/U3L2c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sconception # 5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believe that the greater the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projection, the greater the 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 travelled by a project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Activity Nelson Physics 1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ing Horizontal Range p.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formula to ver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257800" y="3733920"/>
            <a:ext cx="3327480" cy="25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Anim'n of 3 Projectiles at 30, 45, and 60-degree Launch Angle"/>
          <p:cNvPicPr/>
          <p:nvPr/>
        </p:nvPicPr>
        <p:blipFill>
          <a:blip r:embed="rId1"/>
          <a:stretch/>
        </p:blipFill>
        <p:spPr>
          <a:xfrm>
            <a:off x="3809880" y="380880"/>
            <a:ext cx="4775400" cy="55612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5"/>
          <p:cNvSpPr/>
          <p:nvPr/>
        </p:nvSpPr>
        <p:spPr>
          <a:xfrm>
            <a:off x="838080" y="6546960"/>
            <a:ext cx="6140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www.physicsclassroom.com/mmedia/vectors/mzi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69960" y="1784520"/>
            <a:ext cx="283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spot the Mistake in this anim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rategies for solving problem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and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d in the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2971800" y="45720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2819520" y="6084720"/>
            <a:ext cx="57322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cGraw-Hill Ryerson Physics 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pplications and Societal Implication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ile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ns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st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rcus/fir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op food in disast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ssessment and Evaluatio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onkey and Banana Problem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 Black"/>
              </a:rPr>
              <a:t>Monkey and Banana</a:t>
            </a:r>
            <a:br>
              <a:rPr sz="4400"/>
            </a:br>
            <a:r>
              <a:rPr b="1" lang="en-US" sz="1600" spc="-1" strike="noStrike" u="sng">
                <a:solidFill>
                  <a:srgbClr val="0066ff"/>
                </a:solidFill>
                <a:uFillTx/>
                <a:latin typeface="Arial Black"/>
                <a:hlinkClick r:id="rId1"/>
              </a:rPr>
              <a:t>Throw at the Monkey in a Gravity Free Environment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7" name="Picture 4" descr="Monkey 1"/>
          <p:cNvPicPr/>
          <p:nvPr/>
        </p:nvPicPr>
        <p:blipFill>
          <a:blip r:embed="rId2"/>
          <a:stretch/>
        </p:blipFill>
        <p:spPr>
          <a:xfrm>
            <a:off x="380880" y="1447920"/>
            <a:ext cx="8458200" cy="464796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5"/>
          <p:cNvSpPr/>
          <p:nvPr/>
        </p:nvSpPr>
        <p:spPr>
          <a:xfrm>
            <a:off x="838080" y="6546960"/>
            <a:ext cx="6140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www.physicsclassroom.com/mmedia/vectors/mzi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Monkey 2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2270160" y="264960"/>
            <a:ext cx="504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2514600" y="3042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Throw above the Monkey with Gravity 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838080" y="6546960"/>
            <a:ext cx="6140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www.physicsclassroom.com/mmedia/vectors/mzi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3300"/>
                </a:solidFill>
                <a:latin typeface="Calibri"/>
              </a:rPr>
              <a:t>A1. Scientific Investigation Skills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.5 conduct inquiries, controlling relevant variables, adapting or extending procedures as required, and using appropriate materials and equipment safely, accurately, and effectively, to collect observa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.10 draw conclusions based on inquiry results and research findings, and justify their conclusions with reference to scientific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.12 use appropriate numeric (e.g., SI and imperial units), symbolic, and graphic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representation (e.g., vector diagrams, free-body diagrams, vector components, and Algebraic equ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6" descr="Monkey 4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7"/>
          <p:cNvSpPr/>
          <p:nvPr/>
        </p:nvSpPr>
        <p:spPr>
          <a:xfrm>
            <a:off x="2057400" y="304920"/>
            <a:ext cx="49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1828800" y="3042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Throw at the Monkey at a Fast Speed with Gravity 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838080" y="6546960"/>
            <a:ext cx="6140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www.physicsclassroom.com/mmedia/vectors/mzi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Monkey 3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5"/>
          <p:cNvSpPr/>
          <p:nvPr/>
        </p:nvSpPr>
        <p:spPr>
          <a:xfrm>
            <a:off x="3032280" y="112680"/>
            <a:ext cx="550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38088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Throw at the Monkey at a Slow Speed with Gravity 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838080" y="6546960"/>
            <a:ext cx="6140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www.physicsclassroom.com/mmedia/vectors/mzi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1"/>
              </a:rPr>
              <a:t>http://www.lon-capa.org/~mmp/kap3/cd060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2"/>
              </a:rPr>
              <a:t>http://www.walter-fendt.de/ph14e/projectile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4"/>
              </a:rPr>
              <a:t>www.falstad.com/mathphysic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6"/>
              </a:rPr>
              <a:t>www.physicsclassroom.com/mmedia/vectors/mzi.c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eports, D. (2000). Addressing physical intuition-a first day event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Physics Teacher,38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318-3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B2. Developing Skills of Investigation and Communication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2.1 use appropriate terminology related to dynamics, including, but not limited to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ertial and non-inertial frames of reference, components, centripetal, period, frequency, static friction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inetic fric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2.2 solve problems related to motion, including projectile and relative motion, by adding and subtracting two-dimensional vector quantities, using vector diagrams, vector components, and algebraic methods [PR, AI, 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5345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C1. Relating Science to Technology, Society, and the Environment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1.1 analyse a technological device that applies the principles of linear or circular motion (e.g., a slingshot, a rocket launcher, a race car, a trebuchet) [AI, C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1.2 assess the impact on society and the environment of technological devices that use linear or circular motion (e.g., projectile weapons, centrifuges, elevators) [AI, C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Lesson Sequence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Day 1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04920" y="1905120"/>
          <a:ext cx="8540640" cy="4500360"/>
        </p:xfrm>
        <a:graphic>
          <a:graphicData uri="http://schemas.openxmlformats.org/drawingml/2006/table">
            <a:tbl>
              <a:tblPr/>
              <a:tblGrid>
                <a:gridCol w="1904760"/>
                <a:gridCol w="1981440"/>
                <a:gridCol w="1295280"/>
                <a:gridCol w="1295280"/>
                <a:gridCol w="2063880"/>
              </a:tblGrid>
              <a:tr h="78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 of Activit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ing/Learning Strategi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ations Address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Styl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1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Diagnostic l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Projectile mo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Vocabulary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phic organiz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ing textboo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Group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Independent wor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lete Graph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ganiz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Demo Project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tion (to reinforce concept qui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1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1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sthetic/Tac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gui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agnosti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serve students as they complete graphic organizer and perform la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cept qui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ass Activ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0" name="Picture 6" descr="ramp"/>
          <p:cNvPicPr/>
          <p:nvPr/>
        </p:nvPicPr>
        <p:blipFill>
          <a:blip r:embed="rId1"/>
          <a:stretch/>
        </p:blipFill>
        <p:spPr>
          <a:xfrm>
            <a:off x="380880" y="609480"/>
            <a:ext cx="3571920" cy="4267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projectile-motion"/>
          <p:cNvPicPr/>
          <p:nvPr/>
        </p:nvPicPr>
        <p:blipFill>
          <a:blip r:embed="rId2"/>
          <a:stretch/>
        </p:blipFill>
        <p:spPr>
          <a:xfrm>
            <a:off x="4038480" y="609480"/>
            <a:ext cx="3657600" cy="42674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55800" y="6472080"/>
            <a:ext cx="8488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http://media.ehs.uen.org/html/PhysicsQ2/Horizontal_Projectiles_03/ramp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609480" y="52578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type of motion is the marble experiencing vertically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type of motion is the marble experiencing horizontally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aphic Organizer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600200"/>
          <a:ext cx="8229600" cy="459756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Key Te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Definition/Expla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Horizontal Velo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Vertical Velo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Range/Max. Horizontal  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Uniform 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Uniform Accelerated 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Time of F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Maximum H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00:17:44Z</dcterms:created>
  <dc:creator> Nate</dc:creator>
  <dc:description/>
  <dc:language>en-US</dc:language>
  <cp:lastModifiedBy> Nate</cp:lastModifiedBy>
  <dcterms:modified xsi:type="dcterms:W3CDTF">2010-07-28T00:25:23Z</dcterms:modified>
  <cp:revision>224</cp:revision>
  <dc:subject/>
  <dc:title>Slide 1</dc:title>
</cp:coreProperties>
</file>