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4B1D-1986-4796-99C9-C8DD241AC8EB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Now on to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ddress assessment and evaluation first.  As we go through this, we will see how assessment of and for learning fit 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FE4B-57B7-4E76-827C-9FB05B70E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0EAD-CB39-437B-8CEF-98A9BEBF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51FE-09F2-4D97-9E85-CEBEEC62C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84EF-82B3-4BD7-8222-64EB43C7A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8AD9-B285-4036-A667-8DBE9E4A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F5EA-A5A4-4AF5-8A07-2FBA98CC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F03C-0188-47AB-95C5-FC52F75A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73BD-9037-4CD8-BC55-5CC1B339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3BF0-05C3-469C-8D19-96089C0E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FE76-EC1C-4B76-A109-D456EAA8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0FCE-8055-45B6-8CFA-50A5978B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1001-25C0-464C-9004-77A5E24D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74DE-7634-4EAF-B905-0F5FD9A46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SSESSMENT and EVALUAT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seeing through the jargon and figuring out how to use the tool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ole of Feedback in Assess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analysis of approximately 8000 research stud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powerful single modification that enhances achievement is feedback.”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back should be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mediate feedback is more effective than delayed 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back should be a value-neutral description of what the teacher observed  (i.e. it is not praise or bl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back may come from teacher, peer, student (sel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Hattie, J. A. “Measuring the Effects of Schooling.”  Australian Journal of Education. 1992, 36 (1): 5-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tion 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pplication of judgment to the data collected and its analysis to place a “value” on the learner’s achiev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cess of judging the quality of student work based on established criteria and assigning a value to represent that qualit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he overall value assigned will eventually be in the form of a percentage grade on a report card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ssessment of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valuations provide the necessary information t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p guide decisions regarding grading, student placement and certificatio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achievement data for teachers, schools, and the Board from school system improvement planning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e information for accountability and certification purpo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urpose of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easure achievement, not 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ke a judgment about, and assign a value to, a student’s achievement of the knowledge and skills outlined in the curriculum expec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etermine a student’s final grade in a 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pecial Note:  Evaluating Group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ing collaboratively is often part of curriculum expectations.  However, when evaluating groups, teachers should focus on evaluating the individual skills of each studen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sure that tasks (presentations, papers, etc.) and evaluation tools (checklists, rubrics, etc.) are designed to allow for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dividual accounta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Next, to plan around assessments and evalu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Get together with your Unit Planning Groups 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ook at the unit plan you have generated thus far (or start considering your overall unit pl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sider your Culminating T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lan lessons and corresponding assessments so students can succeed at the Culminating T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ome T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ssessment should be part of your daily plan as this guides your tea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llecting “marking” every day could create too much work and backlog/overload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eedback has to be “timely” to be eff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sider peer marking!</a:t>
            </a:r>
            <a:br>
              <a:rPr sz="28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but remember students need to learn assessment skil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difference betwe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ESSMENT and EVALU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difference betwe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ESSMENT OF LEARN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ESSMENT FOR LEARN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, the jargon……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ment 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llecting and analyzing of data and information about a learner’s progress and achie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cess of gathering information from a variety of sources that reflects how well a student is achieving the curriculum expectations in a cours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art of assessment, teachers provide students with descriptive feedback that guides their efforts toward improvement.  The process of assessment guides teaching, as well as student learning and progr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sessments provide the necessary information 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gnose and track student progress and achievemen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feedback to students (and parents/guardians) about progress and achievemen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ster the development of students’ ability to assess their own progres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 and improve instruction, curriculum and educational programs for all studen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urposes of Assess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identify a student’s incoming or developing strengths and weaknesses with respect to the knowledge and skills outlined in curriculum expec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use this information gathered to provide descriptive feedback and/or additional instruction to help students improve their achievement of the curriculum expec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Student Assess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two main types of student assess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no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of these types of assessment are used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ssessments for learn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grading purpose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.e. normally, assessment does not contribute to a student’s final gra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gnostic Assess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at the beginning of a unit/term/course to identify where students stand in relation to selected curriculum expectation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baselin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tool for teachers to use to plan instruction based on student n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tive Assess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during a unit of study to identify how well the instruction is working for each stud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reflect on and modify instructional techniques to improve student lear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20:50:46Z</dcterms:created>
  <dc:creator>K</dc:creator>
  <dc:description/>
  <dc:language>en-US</dc:language>
  <cp:lastModifiedBy>T</cp:lastModifiedBy>
  <dcterms:modified xsi:type="dcterms:W3CDTF">2010-07-11T20:55:49Z</dcterms:modified>
  <cp:revision>8</cp:revision>
  <dc:subject/>
  <dc:title>Assessment and Evaluation</dc:title>
</cp:coreProperties>
</file>