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D947-FF03-4F05-8804-08B26965BDBE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ow on to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ddress assessment and evaluation first.  As we go through this, we will see how assessment of and for learning fit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1036-C390-4D7A-B268-C78CF24E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0CC9-C7D5-4F90-9AB7-17B5FAA8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C6A5-2DDC-4C16-B1AD-7A40D915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5D85-1E2D-4873-BD40-76D7D770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A853-7819-4448-9C19-22F748AD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2B71-DAFB-4767-85A4-F7D225CA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CC01-7362-4768-9365-9525C0E4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9C80-2898-48EB-9035-30ACED53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F14F-1E21-4B07-8BE7-A7CA32F2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4CD4-718F-4635-A544-8084ECF2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ECDC-C06C-4B72-B004-7303946B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A1D0-0B8D-4023-97E3-877AF6BD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6F2E-0A88-4F34-A6AC-A8C5D1FB4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SESSMENT and EVALU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eeing through the jargon and figuring out how to use the tool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ole of Feedback in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analysis of approximately 8000 research stud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powerful single modification that enhances achievement is feedback.”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back should be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ediate feedback is more effective than delayed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back should be a value-neutral description of what the teacher observed  (i.e. it is not praise or bl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back may come from teacher, peer, student (sel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Hattie, J. A. “Measuring the Effects of Schooling.”  Australian Journal of Education. 1992, 36 (1): 5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on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pplication of judgment to the data collected and its analysis to place a “value” on the learner’s achiev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ss of judging the quality of student work based on established criteria and assigning a value to represent that qualit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e overall value assigned will eventually be in the form of a percentage grade on a report car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ssessment of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aluations provide the necessary information t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 guide decisions regarding grading, student placement and certificati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chievement data for teachers, schools, and the Board from school system improvement planning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e information for accountability and certification purpo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 of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easure achievement, not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ke a judgment about, and assign a value to, a student’s achievement of the knowledge and skills outlined in the curriculum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etermine a student’s final grade in a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pecial Note:  Evaluating Group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ing collaboratively is often part of curriculum expectations.  However, when evaluating groups, teachers should focus on evaluating the individual skills of each stud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 that tasks (presentations, papers, etc.) and evaluation tools (checklists, rubrics, etc.) are designed to allow f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ividual account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xt, to plan around assessments and eval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Get together with your Unit Planning Groups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ook at the unit plan you have generated thus far (or start considering your overall unit pl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sider your Culminating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lan lessons and corresponding assessments so students can succeed at the Culminating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ome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ssessment should be part of your daily plan as this guides your te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llecting “marking” every day could create too much work and backlog/overload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eedback has to be “timely” to be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sider peer marking!</a:t>
            </a:r>
            <a:br>
              <a:rPr sz="28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but remember students need to learn assessment skil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difference betwe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 and EVALU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difference betwe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 OF LEARN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 FOR LEARN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, the jargon……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ng and analyzing of data and information about a learner’s progress and achie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ss of gathering information from a variety of sources that reflects how well a student is achieving the curriculum expectations in a cours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art of assessment, teachers provide students with descriptive feedback that guides their efforts toward improvement.  The process of assessment guides teaching, as well as student learning and prog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sessments provide the necessary information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nose and track student progress and achievem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eedback to students (and parents/guardians) about progress and achievem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ster the development of students’ ability to assess their own progres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and improve instruction, curriculum and educational programs for all stud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s of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dentify a student’s incoming or developing strengths and weaknesses with respect to the knowledge and skills outlined in curriculum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use this information gathered to provide descriptive feedback and/or additional instruction to help students improve their achievement of the curriculum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Student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main types of student assess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no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of these types of assessment are us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ssessments for lear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grading purpos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.e. normally, assessment does not contribute to a student’s final gra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tic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at the beginning of a unit/term/course to identify where students stand in relation to selected curriculum expectation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baselin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tool for teachers to use to plan instruction based on student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ive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during a unit of study to identify how well the instruction is working for each stu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reflect on and modify instructional techniques to improve student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20:50:46Z</dcterms:created>
  <dc:creator>K</dc:creator>
  <dc:description/>
  <dc:language>en-US</dc:language>
  <cp:lastModifiedBy>T</cp:lastModifiedBy>
  <dcterms:modified xsi:type="dcterms:W3CDTF">2010-07-11T20:55:49Z</dcterms:modified>
  <cp:revision>8</cp:revision>
  <dc:subject/>
  <dc:title>Assessment and Evaluation</dc:title>
</cp:coreProperties>
</file>