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1069-7DE1-4BE9-B821-448C7FBCD45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w on to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dress assessment and evaluation first.  As we go through this, we will see how assessment of and for learning fi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604-2FA2-4E15-80AB-6C1F32FE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63D-6685-46C4-AC1D-5C4EAEAE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2F9-DAD0-40C1-84B3-C4C7A989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AA3-4401-4EE9-A630-8D5595E0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2D7-7E06-4A8D-ACA8-D8DCC70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E64-3FDB-43CC-BBAA-EB50443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DB8-2B38-4C16-B3DF-251EF6B7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BE3-A913-45B2-B124-3B37D46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A00-1625-408D-9E5E-45746DD3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CB3-30E6-4D66-8FA0-CF11971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E32-50B4-44C0-82FD-A09CAEE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6AC-442E-4B46-BCDF-0ED3CC2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4A0-10D7-404B-955D-C8CB1B3C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MENT and EVALU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ing through the jargon and figuring out how to use the t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Feedback in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ysis of approximately 8000 research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single modification that enhances achievement is feedback.”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feedback is more effective than delay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a value-neutral description of what the teacher observed  (i.e. it is not praise or bl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ay come from teacher, peer, student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Hattie, J. A. “Measuring the Effects of Schooling.”  Australian Journal of Education. 1992, 36 (1): 5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of judgment to the data collected and its analysis to place a “value” on the learner’s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judging the quality of student work based on established criteria and assigning a value to represent that qua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overall value assigned will eventually be in the form of a percentage grade on a report car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s provide the necessary information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guide decisions regarding grading, student placement and certific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hievement data for teachers, schools, and the Board from school system improvement plann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information for accountability and certification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asure achievement, not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judgment about, and assign a value to, a student’s achievement of the knowledge and skills outlined in the curriculum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a student’s final grade in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pecial Note:  Evaluating Group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llaboratively is often part of curriculum expectations.  However, when evaluating groups, teachers should focus on evaluating the individual skills of each stud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tasks (presentations, papers, etc.) and evaluation tools (checklists, rubrics, etc.) are designed to allow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accoun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xt, to plan around assessments and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t together with your Unit Planning Group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ok at the unit plan you have generated thus far (or start considering your overall unit 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your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an lessons and corresponding assessments so students can succeed at the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sessment should be part of your daily plan as this guides your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lecting “marking” every day could create too much work and backlog/overloa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edback has to be “timely”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ider peer marking!</a:t>
            </a:r>
            <a:br>
              <a:rPr sz="28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but remember students need to learn assessment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LEARN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FOR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the jargon……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ng and analyzing of data and information about a learner’s progress and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gathering information from a variety of sources that reflects how well a student is achieving the curriculum expectations in a cour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art of assessment, teachers provide students with descriptive feedback that guides their efforts toward improvement.  The process of assessment guides teaching, as well as student learning and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s provide the necessary information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e and track studen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students (and parents/guardians) abou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 the development of students’ ability to assess their own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improve instruction, curriculum and educational programs for all stud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s of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a student’s incoming or developing strengths and weaknesses with respect to the knowledge and skills outlined in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is information gathered to provide descriptive feedback and/or additional instruction to help students improve their achievement of the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tuden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types of student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f these types of assessment are u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s for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rading purpo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normally, assessment does not contribute to a student’s final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t the beginning of a unit/term/course to identify where students stand in relation to selected curriculum expect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ool for teachers to use to plan instruction based on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a unit of study to identify how well the instruction is working for each stu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flect on and modify instructional techniques to improve studen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50:46Z</dcterms:created>
  <dc:creator>K</dc:creator>
  <dc:description/>
  <dc:language>en-US</dc:language>
  <cp:lastModifiedBy>T</cp:lastModifiedBy>
  <dcterms:modified xsi:type="dcterms:W3CDTF">2010-07-11T20:55:49Z</dcterms:modified>
  <cp:revision>8</cp:revision>
  <dc:subject/>
  <dc:title>Assessment and Evaluation</dc:title>
</cp:coreProperties>
</file>