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7A57-C11C-4892-9F6B-6CEEF884BF0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w on to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ddress assessment and evaluation first.  As we go through this, we will see how assessment of and for learning fit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BFD-27BA-42D3-8B2E-E9D41BDF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999-A360-4140-A17C-197844C1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4DF-B77A-4387-A791-ECB9CD08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DF6-40D8-41D4-9E4D-0B4E877E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7D0-47C8-4348-ADD9-1A63696F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E21-A23E-4A10-93F9-07F2837A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748-ED1F-4C73-A179-CAFAA9A7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E2B-5A30-4C71-9600-AACE35BE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D00-B76D-451F-B605-97820CEA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5DA-7A7E-430D-A9D9-74FB7EDE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80C-F935-4311-A1BE-488D37CC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E27-0175-4891-89F8-5EF5077F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AB9D-5697-414C-996B-9EE399B7C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ESSMENT and EVALU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eeing through the jargon and figuring out how to use the tool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le of Feedback in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analysis of approximately 8000 research stu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 single modification that enhances achievement is feedback.”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should be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diate feedback is more effective than delayed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should be a value-neutral description of what the teacher observed  (i.e. it is not praise or bl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may come from teacher, peer, student (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Hattie, J. A. “Measuring the Effects of Schooling.”  Australian Journal of Education. 1992, 36 (1): 5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lication of judgment to the data collected and its analysis to place a “value” on the learner’s achie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judging the quality of student work based on established criteria and assigning a value to represent that qual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overall value assigned will eventually be in the form of a percentage grade on a report car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sessment of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aluations provide the necessary information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guide decisions regarding grading, student placement and certifica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chievement data for teachers, schools, and the Board from school system improvement plann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e information for accountability and certification purpo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 of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asure achievement, not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a judgment about, and assign a value to, a student’s achievement of the knowledge and skills outlined in the curriculum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a student’s final grade in 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pecial Note:  Evaluating Group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 collaboratively is often part of curriculum expectations.  However, when evaluating groups, teachers should focus on evaluating the individual skills of each stud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that tasks (presentations, papers, etc.) and evaluation tools (checklists, rubrics, etc.) are designed to allow f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vidual account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xt, to plan around assessments and eval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Get together with your Unit Planning Group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ok at the unit plan you have generated thus far (or start considering your overall unit pl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 your Culminat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lan lessons and corresponding assessments so students can succeed at the Culminat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ome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ssessment should be part of your daily plan as this guides your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llecting “marking” every day could create too much work and backlog/overloa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eedback has to be “timely” to be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sider peer marking!</a:t>
            </a:r>
            <a:br>
              <a:rPr sz="28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but remember students need to learn assessment ski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and EVAL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OF LEARN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FOR LEA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, the jargon……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ng and analyzing of data and information about a learner’s progress and achie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gathering information from a variety of sources that reflects how well a student is achieving the curriculum expectations in a cours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art of assessment, teachers provide students with descriptive feedback that guides their efforts toward improvement.  The process of assessment guides teaching, as well as student learning and prog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essments provide the necessary information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e and track student progress and achiev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eedback to students (and parents/guardians) about progress and achiev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ster the development of students’ ability to assess their own prog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and improve instruction, curriculum and educational programs for all stud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s of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dentify a student’s incoming or developing strengths and weaknesses with respect to the knowledge and skills outlined in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se this information gathered to provide descriptive feedback and/or additional instruction to help students improve their achievement of the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Student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main types of student assess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of these types of assessment are us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sessments for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rading purpos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.e. normally, assessment does not contribute to a student’s final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t the beginning of a unit/term/course to identify where students stand in relation to selected curriculum expectatio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baselin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tool for teachers to use to plan instruction based on student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ive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during a unit of study to identify how well the instruction is working for each stu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reflect on and modify instructional techniques to improve student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20:50:46Z</dcterms:created>
  <dc:creator>K</dc:creator>
  <dc:description/>
  <dc:language>en-US</dc:language>
  <cp:lastModifiedBy>T</cp:lastModifiedBy>
  <dcterms:modified xsi:type="dcterms:W3CDTF">2010-07-11T20:55:49Z</dcterms:modified>
  <cp:revision>8</cp:revision>
  <dc:subject/>
  <dc:title>Assessment and Evaluation</dc:title>
</cp:coreProperties>
</file>