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F190-0970-4DB1-AF18-BA4076C4125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w on to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ddress assessment and evaluation first.  As we go through this, we will see how assessment of and for learning fit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210-07CD-499C-98EE-330C09E6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69B-64D6-463A-B5AF-534044B0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FAA-427E-420C-B5E3-DAB945B5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7D1-0C49-41C7-91AB-077CDDEE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C6D-BFE9-4BBA-9A53-C5565B9A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4D6-0A6E-4278-A3FA-E052DF67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EB9-3AB4-4964-915A-73819143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936-5738-496A-A649-F24BF48C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C9A-3B81-423D-96B5-37041B50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880-41AB-4FF6-B893-E45C74A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A5E-1E1B-4DBC-9FD2-C51660B2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647-B4A9-46CF-BBCD-0C149E11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74FF-F6AA-4CA7-BF6E-4C1EAC734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SSMENT and EVALU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eeing through the jargon and figuring out how to use the to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Feedback in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nalysis of approximately 8000 research stu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 single modification that enhances achievement is feedback.”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feedback is more effective than delayed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a value-neutral description of what the teacher observed  (i.e. it is not praise or bl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may come from teacher, peer, student (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Hattie, J. A. “Measuring the Effects of Schooling.”  Australian Journal of Education. 1992, 36 (1): 5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of judgment to the data collected and its analysis to place a “value” on the learner’s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judging the quality of student work based on established criteria and assigning a value to represent that qua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overall value assigned will eventually be in the form of a percentage grade on a report car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aluations provide the necessary information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guide decisions regarding grading, student placement and certific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chievement data for teachers, schools, and the Board from school system improvement plann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e information for accountability and certification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asure achievement, not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judgment about, and assign a value to, a student’s achievement of the knowledge and skills outlined in the curriculum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a student’s final grade in 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pecial Note:  Evaluating Group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collaboratively is often part of curriculum expectations.  However, when evaluating groups, teachers should focus on evaluating the individual skills of each stud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hat tasks (presentations, papers, etc.) and evaluation tools (checklists, rubrics, etc.) are designed to allow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vidual accoun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xt, to plan around assessments and eval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t together with your Unit Planning Group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ok at the unit plan you have generated thus far (or start considering your overall unit 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your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lan lessons and corresponding assessments so students can succeed at the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ome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sessment should be part of your daily plan as this guides your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llecting “marking” every day could create too much work and backlog/overloa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eedback has to be “timely”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ider peer marking!</a:t>
            </a:r>
            <a:br>
              <a:rPr sz="28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but remember students need to learn assessment sk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and EVAL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OF LEARN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FOR LEA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, the jargon……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ng and analyzing of data and information about a learner’s progress and achie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gathering information from a variety of sources that reflects how well a student is achieving the curriculum expectations in a cour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art of assessment, teachers provide students with descriptive feedback that guides their efforts toward improvement.  The process of assessment guides teaching, as well as student learning and pro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ments provide the necessary information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e and track studen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eedback to students (and parents/guardians) abou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ter the development of students’ ability to assess their own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d improve instruction, curriculum and educational programs for all stud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s of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dentify a student’s incoming or developing strengths and weaknesses with respect to the knowledge and skills outlined in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his information gathered to provide descriptive feedback and/or additional instruction to help students improve their achievement of the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Studen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types of student assess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f these types of assessment are us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s for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rading purpo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normally, assessment does not contribute to a student’s final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t the beginning of a unit/term/course to identify where students stand in relation to selected curriculum expect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aselin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ool for teachers to use to plan instruction based on student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a unit of study to identify how well the instruction is working for each stu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flect on and modify instructional techniques to improve student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50:46Z</dcterms:created>
  <dc:creator>K</dc:creator>
  <dc:description/>
  <dc:language>en-US</dc:language>
  <cp:lastModifiedBy>T</cp:lastModifiedBy>
  <dcterms:modified xsi:type="dcterms:W3CDTF">2010-07-11T20:55:49Z</dcterms:modified>
  <cp:revision>8</cp:revision>
  <dc:subject/>
  <dc:title>Assessment and Evaluation</dc:title>
</cp:coreProperties>
</file>